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8.xml.rels" ContentType="application/vnd.openxmlformats-package.relationships+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move the slide</a:t>
            </a:r>
            <a:endParaRPr b="0" lang="en-US" sz="4200" spc="-1" strike="noStrike">
              <a:solidFill>
                <a:srgbClr val="ffc000"/>
              </a:solidFill>
              <a:latin typeface="Century Gothic"/>
            </a:endParaRPr>
          </a:p>
        </p:txBody>
      </p:sp>
      <p:sp>
        <p:nvSpPr>
          <p:cNvPr id="30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Click to edit the notes format</a:t>
            </a:r>
            <a:endParaRPr b="0" lang="en-US" sz="1200" spc="-1" strike="noStrike">
              <a:solidFill>
                <a:srgbClr val="000000"/>
              </a:solidFill>
              <a:latin typeface="Aptos"/>
            </a:endParaRPr>
          </a:p>
        </p:txBody>
      </p:sp>
      <p:sp>
        <p:nvSpPr>
          <p:cNvPr id="306" name="PlaceHolder 5"/>
          <p:cNvSpPr>
            <a:spLocks noGrp="1"/>
          </p:cNvSpPr>
          <p:nvPr>
            <p:ph type="ftr" idx="2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17523-6D42-4951-B13C-CFC530A977A5}" type="slidenum">
              <a:rPr b="0" lang="sr-Latn-R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1143000"/>
            <a:ext cx="4114800" cy="3086280"/>
          </a:xfrm>
          <a:prstGeom prst="rect">
            <a:avLst/>
          </a:prstGeom>
          <a:ln w="0">
            <a:noFill/>
          </a:ln>
        </p:spPr>
      </p:sp>
      <p:sp>
        <p:nvSpPr>
          <p:cNvPr id="3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Aptos"/>
            </a:endParaRPr>
          </a:p>
        </p:txBody>
      </p:sp>
      <p:sp>
        <p:nvSpPr>
          <p:cNvPr id="36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AE697-77F3-4BC4-A11D-95728C451F93}" type="slidenum">
              <a:rPr b="0" lang="sr-Latn-R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C3CB8-B854-4CEB-A44C-B7917CB7F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374B2-9873-4CA1-AEDA-5A4EBEBA0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BDF9C-750B-4420-8C82-F498D6E64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2C5CE-0051-4866-BA83-03B9C0D14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71311-4F7E-4658-B5E0-3ED2815BCC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24CF1-2799-4609-BA65-11DA6FEB8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7B055-B2D5-464B-ACA4-A25B180F9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2BFB0-0A73-426C-8B9F-FF986036C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08165-87EC-40FF-89DA-2245B6FA9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526FE-C3DE-48B8-BCCC-691757902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B21C2-2F81-482B-8735-A6D63652F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0EEDB-4BF2-4BFB-807D-D4FDDA79B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B1F15-AABF-4520-84E5-52F57FD4E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48DC4-7DC2-40B1-8179-2D87124C9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D0F47-44A2-41D4-88DB-21C00E09E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73DE6-F543-4C12-BDDB-4474761A0D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E277E1-42AE-41CA-8CA9-C32455677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C5C4C3-36BF-476F-8697-31D1009419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F325E2-56D6-4EBE-83D4-13264C36AF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19349A-4A02-47DE-B5AD-836064FBC4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8E9209-7867-40EC-9221-F558BCD089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A8D6BA-71C1-407A-8B45-896009E38E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06DE8-590D-4D63-B2AF-BB3037A55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6B772E-A326-44C5-AFEB-A82DA926FD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C6C5A4-7452-49FB-8A92-D327B1B59E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15CCEA-AF99-4B3C-9F97-56CFAA5D99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7528AB-7AA3-41F2-8140-90FD474F8E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4DDF8D-A323-47BB-ADCD-21F9380A6D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C12658-662C-4DE6-896A-8015DCBE39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8C011C-3739-412E-8006-F3332994AA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94CAEE-6039-4445-A00D-6208129DBE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08AAE6-03B8-469C-94B6-B54BD3DE7A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4A6818-342F-4EAC-A73C-3CDF7F87CB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DE604-929B-4E9E-B26D-642B2DD53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82BBF9-17C4-435B-A9F6-A4EA0020E6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567C2B-C82C-4C02-8C4B-EE7AE52668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6971C3-5FF1-4D46-96C2-BC37D7CC50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26E882-D235-4C6A-949D-3E8AEE9021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83875E-6ED5-4412-9789-CBBBEB54F9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FC3FBF-C5F7-4444-9488-F645B92007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5C480B-F330-4A58-BC64-B770F91FE6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22E4DF-889A-4EFD-BA81-546A70B64B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8C34D2-560C-4F26-8D73-35268F7005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9503F3-8685-42E6-8854-A345787564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242ED-BB41-4BEA-B8A0-8C56218E7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B5F59E-BAF2-4A6E-851E-0F6535BC63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58B8C7-3EED-405D-9915-6E19BA98DF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9F5091-7E14-42DA-9A33-4969321952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F2C2BC-3C88-4004-97EC-3124F69C20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56D36C-2F5D-4F67-816F-056BEE6944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CC194B-2F86-477F-89CD-43AAF0348B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E8129A-1B9D-463E-8DE6-94E7E26EBD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ACC61C-4813-42CC-824E-B70363AE19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3AE8A9-E10F-44D8-B011-C317D4E6BE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9A96D7-4C35-403D-99DF-049439BC61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04DEF-34A3-46EF-A9E7-8CF1874D9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A61590-524C-4DEB-A9BB-F0F1C56834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56DC5E-20E1-4A1A-8768-A55F3D4F14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DB97C6-2DBB-4BAD-8106-E0D353410D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F87099-DADE-463D-9878-2AD3449EF9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1D44AF-2163-4C86-AF59-D2BEAA1D82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DD00DE-5C70-4826-8583-5F21D91431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9F1AF3-0036-4A1E-A80B-A864F433AF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5104A8-1AA0-408F-95C5-73BCEC4904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C02926-3A83-4151-9A41-F2E22535B3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F795C8-66C4-46A6-A56C-41894A04B1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2B9AF-52C5-4538-BFBE-B10B80410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126899-92A0-47A7-B74E-EA17E6974E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E22BE8-9C20-471B-8071-336F56E3E3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0D8BCD-CD67-46C0-B965-B5131BB6FE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7A9D3D-1764-49D2-AED2-A1F77C0287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6A70DB-FB81-4766-B286-7E310B8D88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319E76-CC54-4A0B-A297-E3805789DE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DC31D9-5486-4A1D-94C8-E8050D5892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1E330C-5916-45CC-BC48-2F02E3CC36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868287-8BE0-4125-8987-47FFEAC836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91C63C-F1D5-4E98-84E9-2C23210ED1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B0818-B261-4ECC-96E8-683714FAA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1301EB-6700-4C35-A878-CB26A9EBFB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456CA7-751A-4F1F-A348-AABE7862E0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CD74B8-0E97-4ADA-9835-DF4844BB7E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1429F6-9461-45E4-B094-1B0C8FA533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76E539-870B-4CD6-BAA5-B9312B9F13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12873-4E05-4B53-BC2B-2DB09B098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edit the title text format</a:t>
            </a:r>
            <a:endParaRPr b="0" lang="en-US" sz="4200" spc="-1" strike="noStrike">
              <a:solidFill>
                <a:srgbClr val="ffc000"/>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ck to edit the outline text format</a:t>
            </a:r>
            <a:endParaRPr b="0" lang="en-US" sz="3000" spc="-1" strike="noStrike">
              <a:solidFill>
                <a:srgbClr val="ffc000"/>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cond Outline Level</a:t>
            </a:r>
            <a:endParaRPr b="0" lang="en-US" sz="3000" spc="-1" strike="noStrike">
              <a:solidFill>
                <a:srgbClr val="ffc000"/>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Third Outline Level</a:t>
            </a:r>
            <a:endParaRPr b="0" lang="en-US" sz="3000" spc="-1" strike="noStrike">
              <a:solidFill>
                <a:srgbClr val="ffc000"/>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ourth Outline Level</a:t>
            </a:r>
            <a:endParaRPr b="0" lang="en-US" sz="3000" spc="-1" strike="noStrike">
              <a:solidFill>
                <a:srgbClr val="ffc000"/>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ifth Outline Level</a:t>
            </a:r>
            <a:endParaRPr b="0" lang="en-US" sz="3000" spc="-1" strike="noStrike">
              <a:solidFill>
                <a:srgbClr val="ffc000"/>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ixth Outline Level</a:t>
            </a:r>
            <a:endParaRPr b="0" lang="en-US" sz="3000" spc="-1" strike="noStrike">
              <a:solidFill>
                <a:srgbClr val="ffc000"/>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venth Outline Level</a:t>
            </a:r>
            <a:endParaRPr b="0" lang="en-US" sz="3000" spc="-1" strike="noStrike">
              <a:solidFill>
                <a:srgbClr val="ffc000"/>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3993E-D279-4B8C-B0FD-24D5A6BDBD5D}"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6"/>
          <p:cNvSpPr/>
          <p:nvPr/>
        </p:nvSpPr>
        <p:spPr>
          <a:xfrm rot="16200000">
            <a:off x="7553160" y="5254200"/>
            <a:ext cx="1893960" cy="1293840"/>
          </a:xfrm>
          <a:prstGeom prst="triangle">
            <a:avLst>
              <a:gd name="adj" fmla="val 51324"/>
            </a:avLst>
          </a:prstGeom>
          <a:gradFill rotWithShape="0">
            <a:gsLst>
              <a:gs pos="0">
                <a:srgbClr val="18477f"/>
              </a:gs>
              <a:gs pos="100000">
                <a:srgbClr val="87aded"/>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edit the title text format</a:t>
            </a:r>
            <a:endParaRPr b="0" lang="en-US" sz="4200" spc="-1" strike="noStrike">
              <a:solidFill>
                <a:srgbClr val="ffc000"/>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ck to edit the outline text format</a:t>
            </a:r>
            <a:endParaRPr b="0" lang="en-US" sz="3000" spc="-1" strike="noStrike">
              <a:solidFill>
                <a:srgbClr val="ffc000"/>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cond Outline Level</a:t>
            </a:r>
            <a:endParaRPr b="0" lang="en-US" sz="3000" spc="-1" strike="noStrike">
              <a:solidFill>
                <a:srgbClr val="ffc000"/>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Third Outline Level</a:t>
            </a:r>
            <a:endParaRPr b="0" lang="en-US" sz="3000" spc="-1" strike="noStrike">
              <a:solidFill>
                <a:srgbClr val="ffc000"/>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ourth Outline Level</a:t>
            </a:r>
            <a:endParaRPr b="0" lang="en-US" sz="3000" spc="-1" strike="noStrike">
              <a:solidFill>
                <a:srgbClr val="ffc000"/>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ifth Outline Level</a:t>
            </a:r>
            <a:endParaRPr b="0" lang="en-US" sz="3000" spc="-1" strike="noStrike">
              <a:solidFill>
                <a:srgbClr val="ffc000"/>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ixth Outline Level</a:t>
            </a:r>
            <a:endParaRPr b="0" lang="en-US" sz="3000" spc="-1" strike="noStrike">
              <a:solidFill>
                <a:srgbClr val="ffc000"/>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venth Outline Level</a:t>
            </a:r>
            <a:endParaRPr b="0" lang="en-US" sz="3000" spc="-1" strike="noStrike">
              <a:solidFill>
                <a:srgbClr val="ffc000"/>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A2DD9-2410-4F73-9053-BD2DA27D4138}"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edit the title text format</a:t>
            </a:r>
            <a:endParaRPr b="0" lang="en-US" sz="4200" spc="-1" strike="noStrike">
              <a:solidFill>
                <a:srgbClr val="ffc000"/>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ck to edit the outline text format</a:t>
            </a:r>
            <a:endParaRPr b="0" lang="en-US" sz="3000" spc="-1" strike="noStrike">
              <a:solidFill>
                <a:srgbClr val="ffc000"/>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cond Outline Level</a:t>
            </a:r>
            <a:endParaRPr b="0" lang="en-US" sz="3000" spc="-1" strike="noStrike">
              <a:solidFill>
                <a:srgbClr val="ffc000"/>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Third Outline Level</a:t>
            </a:r>
            <a:endParaRPr b="0" lang="en-US" sz="3000" spc="-1" strike="noStrike">
              <a:solidFill>
                <a:srgbClr val="ffc000"/>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ourth Outline Level</a:t>
            </a:r>
            <a:endParaRPr b="0" lang="en-US" sz="3000" spc="-1" strike="noStrike">
              <a:solidFill>
                <a:srgbClr val="ffc000"/>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ifth Outline Level</a:t>
            </a:r>
            <a:endParaRPr b="0" lang="en-US" sz="3000" spc="-1" strike="noStrike">
              <a:solidFill>
                <a:srgbClr val="ffc000"/>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ixth Outline Level</a:t>
            </a:r>
            <a:endParaRPr b="0" lang="en-US" sz="3000" spc="-1" strike="noStrike">
              <a:solidFill>
                <a:srgbClr val="ffc000"/>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venth Outline Level</a:t>
            </a:r>
            <a:endParaRPr b="0" lang="en-US" sz="3000" spc="-1" strike="noStrike">
              <a:solidFill>
                <a:srgbClr val="ffc000"/>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47F0-7B23-438F-94E2-8410B241B83B}"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8"/>
          <p:cNvSpPr/>
          <p:nvPr/>
        </p:nvSpPr>
        <p:spPr>
          <a:xfrm flipV="1">
            <a:off x="6480" y="612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7"/>
          <p:cNvSpPr/>
          <p:nvPr/>
        </p:nvSpPr>
        <p:spPr>
          <a:xfrm flipV="1" rot="5400000">
            <a:off x="7553160" y="308160"/>
            <a:ext cx="1893960" cy="1293840"/>
          </a:xfrm>
          <a:prstGeom prst="triangle">
            <a:avLst>
              <a:gd name="adj" fmla="val 51324"/>
            </a:avLst>
          </a:prstGeom>
          <a:gradFill rotWithShape="0">
            <a:gsLst>
              <a:gs pos="0">
                <a:srgbClr val="18477f"/>
              </a:gs>
              <a:gs pos="100000">
                <a:srgbClr val="87aded"/>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0"/>
          <p:cNvSpPr/>
          <p:nvPr/>
        </p:nvSpPr>
        <p:spPr>
          <a:xfrm flipH="1" flipV="1">
            <a:off x="6469200" y="900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9"/>
          <p:cNvSpPr/>
          <p:nvPr/>
        </p:nvSpPr>
        <p:spPr>
          <a:xfrm flipV="1">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edit the title text format</a:t>
            </a:r>
            <a:endParaRPr b="0" lang="en-US" sz="4200" spc="-1" strike="noStrike">
              <a:solidFill>
                <a:srgbClr val="ffc000"/>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ck to edit the outline text format</a:t>
            </a:r>
            <a:endParaRPr b="0" lang="en-US" sz="3000" spc="-1" strike="noStrike">
              <a:solidFill>
                <a:srgbClr val="ffc000"/>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cond Outline Level</a:t>
            </a:r>
            <a:endParaRPr b="0" lang="en-US" sz="3000" spc="-1" strike="noStrike">
              <a:solidFill>
                <a:srgbClr val="ffc000"/>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Third Outline Level</a:t>
            </a:r>
            <a:endParaRPr b="0" lang="en-US" sz="3000" spc="-1" strike="noStrike">
              <a:solidFill>
                <a:srgbClr val="ffc000"/>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ourth Outline Level</a:t>
            </a:r>
            <a:endParaRPr b="0" lang="en-US" sz="3000" spc="-1" strike="noStrike">
              <a:solidFill>
                <a:srgbClr val="ffc000"/>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ifth Outline Level</a:t>
            </a:r>
            <a:endParaRPr b="0" lang="en-US" sz="3000" spc="-1" strike="noStrike">
              <a:solidFill>
                <a:srgbClr val="ffc000"/>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ixth Outline Level</a:t>
            </a:r>
            <a:endParaRPr b="0" lang="en-US" sz="3000" spc="-1" strike="noStrike">
              <a:solidFill>
                <a:srgbClr val="ffc000"/>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venth Outline Level</a:t>
            </a:r>
            <a:endParaRPr b="0" lang="en-US" sz="3000" spc="-1" strike="noStrike">
              <a:solidFill>
                <a:srgbClr val="ffc000"/>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9F469-F630-4535-82B2-308430FE42C1}"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edit the title text format</a:t>
            </a:r>
            <a:endParaRPr b="0" lang="en-US" sz="4200" spc="-1" strike="noStrike">
              <a:solidFill>
                <a:srgbClr val="ffc000"/>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ck to edit the outline text format</a:t>
            </a:r>
            <a:endParaRPr b="0" lang="en-US" sz="3000" spc="-1" strike="noStrike">
              <a:solidFill>
                <a:srgbClr val="ffc000"/>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cond Outline Level</a:t>
            </a:r>
            <a:endParaRPr b="0" lang="en-US" sz="3000" spc="-1" strike="noStrike">
              <a:solidFill>
                <a:srgbClr val="ffc000"/>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Third Outline Level</a:t>
            </a:r>
            <a:endParaRPr b="0" lang="en-US" sz="3000" spc="-1" strike="noStrike">
              <a:solidFill>
                <a:srgbClr val="ffc000"/>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ourth Outline Level</a:t>
            </a:r>
            <a:endParaRPr b="0" lang="en-US" sz="3000" spc="-1" strike="noStrike">
              <a:solidFill>
                <a:srgbClr val="ffc000"/>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ifth Outline Level</a:t>
            </a:r>
            <a:endParaRPr b="0" lang="en-US" sz="3000" spc="-1" strike="noStrike">
              <a:solidFill>
                <a:srgbClr val="ffc000"/>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ixth Outline Level</a:t>
            </a:r>
            <a:endParaRPr b="0" lang="en-US" sz="3000" spc="-1" strike="noStrike">
              <a:solidFill>
                <a:srgbClr val="ffc000"/>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venth Outline Level</a:t>
            </a:r>
            <a:endParaRPr b="0" lang="en-US" sz="3000" spc="-1" strike="noStrike">
              <a:solidFill>
                <a:srgbClr val="ffc000"/>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BF3D-1651-4523-B0EF-D564453D3691}"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edit the title text format</a:t>
            </a:r>
            <a:endParaRPr b="0" lang="en-US" sz="4200" spc="-1" strike="noStrike">
              <a:solidFill>
                <a:srgbClr val="ffc000"/>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ck to edit the outline text format</a:t>
            </a:r>
            <a:endParaRPr b="0" lang="en-US" sz="3000" spc="-1" strike="noStrike">
              <a:solidFill>
                <a:srgbClr val="ffc000"/>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cond Outline Level</a:t>
            </a:r>
            <a:endParaRPr b="0" lang="en-US" sz="3000" spc="-1" strike="noStrike">
              <a:solidFill>
                <a:srgbClr val="ffc000"/>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Third Outline Level</a:t>
            </a:r>
            <a:endParaRPr b="0" lang="en-US" sz="3000" spc="-1" strike="noStrike">
              <a:solidFill>
                <a:srgbClr val="ffc000"/>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ourth Outline Level</a:t>
            </a:r>
            <a:endParaRPr b="0" lang="en-US" sz="3000" spc="-1" strike="noStrike">
              <a:solidFill>
                <a:srgbClr val="ffc000"/>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ifth Outline Level</a:t>
            </a:r>
            <a:endParaRPr b="0" lang="en-US" sz="3000" spc="-1" strike="noStrike">
              <a:solidFill>
                <a:srgbClr val="ffc000"/>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ixth Outline Level</a:t>
            </a:r>
            <a:endParaRPr b="0" lang="en-US" sz="3000" spc="-1" strike="noStrike">
              <a:solidFill>
                <a:srgbClr val="ffc000"/>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venth Outline Level</a:t>
            </a:r>
            <a:endParaRPr b="0" lang="en-US" sz="3000" spc="-1" strike="noStrike">
              <a:solidFill>
                <a:srgbClr val="ffc000"/>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328CE-E2C3-4856-9295-C8EC63BC5D54}"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edit the title text format</a:t>
            </a:r>
            <a:endParaRPr b="0" lang="en-US" sz="4200" spc="-1" strike="noStrike">
              <a:solidFill>
                <a:srgbClr val="ffc000"/>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ck to edit the outline text format</a:t>
            </a:r>
            <a:endParaRPr b="0" lang="en-US" sz="3000" spc="-1" strike="noStrike">
              <a:solidFill>
                <a:srgbClr val="ffc000"/>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cond Outline Level</a:t>
            </a:r>
            <a:endParaRPr b="0" lang="en-US" sz="3000" spc="-1" strike="noStrike">
              <a:solidFill>
                <a:srgbClr val="ffc000"/>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Third Outline Level</a:t>
            </a:r>
            <a:endParaRPr b="0" lang="en-US" sz="3000" spc="-1" strike="noStrike">
              <a:solidFill>
                <a:srgbClr val="ffc000"/>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ourth Outline Level</a:t>
            </a:r>
            <a:endParaRPr b="0" lang="en-US" sz="3000" spc="-1" strike="noStrike">
              <a:solidFill>
                <a:srgbClr val="ffc000"/>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ifth Outline Level</a:t>
            </a:r>
            <a:endParaRPr b="0" lang="en-US" sz="3000" spc="-1" strike="noStrike">
              <a:solidFill>
                <a:srgbClr val="ffc000"/>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ixth Outline Level</a:t>
            </a:r>
            <a:endParaRPr b="0" lang="en-US" sz="3000" spc="-1" strike="noStrike">
              <a:solidFill>
                <a:srgbClr val="ffc000"/>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venth Outline Level</a:t>
            </a:r>
            <a:endParaRPr b="0" lang="en-US" sz="3000" spc="-1" strike="noStrike">
              <a:solidFill>
                <a:srgbClr val="ffc000"/>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63E0-4FAB-4F2C-A980-F150CE4421E1}"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609480" y="2498760"/>
            <a:ext cx="8064720" cy="17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7200" y="761760"/>
            <a:ext cx="8229600" cy="5692680"/>
          </a:xfrm>
          <a:prstGeom prst="rect">
            <a:avLst/>
          </a:prstGeom>
          <a:noFill/>
          <a:ln w="0">
            <a:noFill/>
          </a:ln>
        </p:spPr>
        <p:txBody>
          <a:bodyPr anchor="t">
            <a:normAutofit/>
          </a:bodyPr>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The interpretation of transference </a:t>
            </a:r>
            <a:r>
              <a:rPr b="0" lang="en-US" sz="2100" spc="-1" strike="noStrike">
                <a:solidFill>
                  <a:srgbClr val="ffc000"/>
                </a:solidFill>
                <a:latin typeface="Century Gothic"/>
              </a:rPr>
              <a:t>is a central event in psychoanalysis. To interpret means to make an unconscious content conscious. Gaining a realistic insight into the repressed, unconscious conflict is the path to eliminating symptoms, that is, to healing. </a:t>
            </a:r>
            <a:endParaRPr b="0" lang="en-US" sz="2100" spc="-1" strike="noStrike">
              <a:solidFill>
                <a:srgbClr val="ffc000"/>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During the analytical session, Freud discovered the existence of </a:t>
            </a:r>
            <a:r>
              <a:rPr b="1" lang="en-US" sz="2100" spc="-1" strike="noStrike">
                <a:solidFill>
                  <a:srgbClr val="ffc000"/>
                </a:solidFill>
                <a:latin typeface="Century Gothic"/>
              </a:rPr>
              <a:t>resistance, </a:t>
            </a:r>
            <a:r>
              <a:rPr b="0" lang="en-US" sz="2100" spc="-1" strike="noStrike">
                <a:solidFill>
                  <a:srgbClr val="ffc000"/>
                </a:solidFill>
                <a:latin typeface="Century Gothic"/>
              </a:rPr>
              <a:t>that is, those forces in the individual that oppose the progress of psychoanalysis. Different types of resistance accompany the therapeutic process </a:t>
            </a:r>
            <a:r>
              <a:rPr b="1" lang="en-US" sz="2100" spc="-1" strike="noStrike">
                <a:solidFill>
                  <a:srgbClr val="ffc000"/>
                </a:solidFill>
                <a:latin typeface="Century Gothic"/>
              </a:rPr>
              <a:t>(resistance from the Id, resistance from the Ego, resistances that oppose change, resistances that come from the Superego, etc</a:t>
            </a:r>
            <a:r>
              <a:rPr b="0" lang="en-US" sz="2100" spc="-1" strike="noStrike">
                <a:solidFill>
                  <a:srgbClr val="ffc000"/>
                </a:solidFill>
                <a:latin typeface="Century Gothic"/>
              </a:rPr>
              <a:t>.). The existence of resistance is evident and is shown through lapses in speech, various types of forgetting, or actions that the patient does to hinder the analytical process (for example, it happens that the patient forgets about the session, opposes the analysis of his dreams, or opposes the interpretation of the transference and fig). The famous analyst Otto Fenichel said that every transfer is essentially a resistance.</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457200"/>
            <a:ext cx="8229600" cy="5997600"/>
          </a:xfrm>
          <a:prstGeom prst="rect">
            <a:avLst/>
          </a:prstGeom>
          <a:noFill/>
          <a:ln w="0">
            <a:noFill/>
          </a:ln>
        </p:spPr>
        <p:txBody>
          <a:bodyPr anchor="t">
            <a:normAutofit/>
          </a:bodyPr>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The great contribution of Freud's teaching is in the discovery of the unconscious</a:t>
            </a:r>
            <a:r>
              <a:rPr b="0" lang="en-US" sz="1900" spc="-1" strike="noStrike">
                <a:solidFill>
                  <a:srgbClr val="ffc000"/>
                </a:solidFill>
                <a:latin typeface="Century Gothic"/>
              </a:rPr>
              <a:t>. By the unconscious, Freud means psychic processes of which the personality is not aware, that is, material that primarily represents instinctive impulses of an aggressive and libidinous character. Opposites in the unconscious face each other without being mutually exclusive, they do not know limitations in time and space and know the principle of pleasure. In addition to mistakes, dreams also help to reveal the unconscious. </a:t>
            </a:r>
            <a:endParaRPr b="0" lang="en-US" sz="1900" spc="-1" strike="noStrike">
              <a:solidFill>
                <a:srgbClr val="ffc000"/>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Freud used to say, </a:t>
            </a:r>
            <a:r>
              <a:rPr b="1" lang="en-US" sz="1900" spc="-1" strike="noStrike">
                <a:solidFill>
                  <a:srgbClr val="ffc000"/>
                </a:solidFill>
                <a:latin typeface="Century Gothic"/>
              </a:rPr>
              <a:t>“Dreams are the royal road to the unconscious”</a:t>
            </a:r>
            <a:r>
              <a:rPr b="0" lang="en-US" sz="1900" spc="-1" strike="noStrike">
                <a:solidFill>
                  <a:srgbClr val="ffc000"/>
                </a:solidFill>
                <a:latin typeface="Century Gothic"/>
              </a:rPr>
              <a:t>. In Freud’s personality theory, the synonym of the unconscious is the Id. In addition to the Id, Freud’s structural model of personality implies the existence of two more instances: the Ego and the Superego. The ego is the conscious part of the personality that functions according to the principle of reality, trying to establish a balance between the Id, Superego, and reality. The superego is a moral instance, the formation of which begins with the resolution of the oedipal situation and continues through the process of identification with the value system of primary objects, other significant figures in the environment and through the adoption of generally accepted norms and rules of behavior in the social environment.</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Psychoanalysis is a long-term therapeutic process, lasting from 3 to 5 years, in sessions of 45 minutes, two to three times a week. It is performed by specially trained psychotherapists. Sessions are organized in an environment that is protected from external influences (bright light, noise, etc.). The patient lies on the couch, and the analyst sits behind him. The basic technique of psychoanalysts is interpretations. Transference, resistance, and other unconscious contents are interpreted. In addition to interpretation, the psychoanalyst also uses the following techniques: </a:t>
            </a:r>
            <a:r>
              <a:rPr b="1" lang="en-US" sz="2300" spc="-1" strike="noStrike">
                <a:solidFill>
                  <a:srgbClr val="ffc000"/>
                </a:solidFill>
                <a:latin typeface="Century Gothic"/>
              </a:rPr>
              <a:t>confrontation, clarification, and processing. </a:t>
            </a:r>
            <a:r>
              <a:rPr b="0" lang="en-US" sz="2300" spc="-1" strike="noStrike">
                <a:solidFill>
                  <a:srgbClr val="ffc000"/>
                </a:solidFill>
                <a:latin typeface="Century Gothic"/>
              </a:rPr>
              <a:t>The main goal of psychoanalysis is the reconstruction of the personality in the sense of strengthening the Ego, which becomes more mature, with new, more mature defenses that replace the pathological ones.</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57200" y="380880"/>
            <a:ext cx="8229600" cy="6073920"/>
          </a:xfrm>
          <a:prstGeom prst="rect">
            <a:avLst/>
          </a:prstGeom>
          <a:noFill/>
          <a:ln w="0">
            <a:noFill/>
          </a:ln>
        </p:spPr>
        <p:txBody>
          <a:bodyPr anchor="t">
            <a:normAutofit/>
          </a:bodyPr>
          <a:p>
            <a:pPr marL="447840" indent="-3826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entury Gothic"/>
              </a:rPr>
              <a:t>EXPRESSIVE PSYCHOTHERAPY                             (individual)       </a:t>
            </a:r>
            <a:endParaRPr b="0" lang="en-US" sz="2800" spc="-1" strike="noStrike">
              <a:solidFill>
                <a:srgbClr val="ffc000"/>
              </a:solidFill>
              <a:latin typeface="Century Gothic"/>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Century Gothic"/>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Century Gothic"/>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Expressive psychotherapy in the narrower sense was created by modifying the technique of classical psychoanalysis. It is a psychodynamic therapy that, like psychoanalysis, interprets the unconscious and resistance, but is less demanding and limited in time, which is more suitable for people of our age. </a:t>
            </a:r>
            <a:endParaRPr b="0" lang="en-US" sz="1800" spc="-1" strike="noStrike">
              <a:solidFill>
                <a:srgbClr val="ffc000"/>
              </a:solidFill>
              <a:latin typeface="Century Gothic"/>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In addition, the indication area of this psychotherapy is wider, compared to psychoanalysis. It is suitable for working on the resolution of the current conflict with a tendency towards personality reconstruction through achieving partial insight into one’s conflict, and interpretations, </a:t>
            </a:r>
            <a:r>
              <a:rPr b="1" lang="en-US" sz="1800" spc="-1" strike="noStrike">
                <a:solidFill>
                  <a:srgbClr val="ffc000"/>
                </a:solidFill>
                <a:latin typeface="Century Gothic"/>
              </a:rPr>
              <a:t>but also through identification with the analyst who offers himself as a "good model". </a:t>
            </a:r>
            <a:endParaRPr b="0" lang="en-US" sz="1800" spc="-1" strike="noStrike">
              <a:solidFill>
                <a:srgbClr val="ffc000"/>
              </a:solidFill>
              <a:latin typeface="Century Gothic"/>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A variant of short analytically oriented psychotherapy is the so-called </a:t>
            </a:r>
            <a:r>
              <a:rPr b="1" lang="en-US" sz="1800" spc="-1" strike="noStrike">
                <a:solidFill>
                  <a:srgbClr val="ffc000"/>
                </a:solidFill>
                <a:latin typeface="Century Gothic"/>
              </a:rPr>
              <a:t>FOCAL PSYCHOTHERAPY</a:t>
            </a:r>
            <a:r>
              <a:rPr b="0" lang="en-US" sz="1800" spc="-1" strike="noStrike">
                <a:solidFill>
                  <a:srgbClr val="ffc000"/>
                </a:solidFill>
                <a:latin typeface="Century Gothic"/>
              </a:rPr>
              <a:t>, whose goal is to work on an intrapsychic conflict that the therapist and the patient discover and work on. Short analytically oriented psychotherapy is organized once a week, with a session lasting up to 45 minutes. This type of psychotherapy can be applied to people who have satisfactory introspective potential, which will enable them to resolve future conflicts more adequately and independently after the therapy is completed. For most patients, 20 to 30 chances are enough.</a:t>
            </a:r>
            <a:endParaRPr b="0" lang="en-US" sz="18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457200" y="304560"/>
            <a:ext cx="8229600" cy="6149880"/>
          </a:xfrm>
          <a:prstGeom prst="rect">
            <a:avLst/>
          </a:prstGeom>
          <a:noFill/>
          <a:ln w="0">
            <a:noFill/>
          </a:ln>
        </p:spPr>
        <p:txBody>
          <a:bodyPr anchor="t">
            <a:normAutofit fontScale="99000"/>
          </a:bodyPr>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entury Gothic"/>
              </a:rPr>
              <a:t>3. EXPRESSIVE PSYCHOTHERAPY (group)</a:t>
            </a:r>
            <a:endParaRPr b="0" lang="en-US" sz="1800" spc="-1" strike="noStrike">
              <a:solidFill>
                <a:srgbClr val="ffc000"/>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Century Gothic"/>
            </a:endParaRPr>
          </a:p>
          <a:p>
            <a:pPr marL="443160" indent="-378720">
              <a:lnSpc>
                <a:spcPct val="80000"/>
              </a:lnSpc>
              <a:spcBef>
                <a:spcPts val="451"/>
              </a:spcBef>
              <a:buClr>
                <a:srgbClr val="4f81bd"/>
              </a:buClr>
              <a:buSzPct val="80000"/>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entury Gothic"/>
              </a:rPr>
              <a:t>Analytical group psychotherapy (group analysis)           </a:t>
            </a:r>
            <a:endParaRPr b="0" lang="en-US" sz="1800" spc="-1" strike="noStrike">
              <a:solidFill>
                <a:srgbClr val="ffc000"/>
              </a:solidFill>
              <a:latin typeface="Century Gothic"/>
            </a:endParaRPr>
          </a:p>
          <a:p>
            <a:pPr marL="443160" indent="-378720">
              <a:lnSpc>
                <a:spcPct val="80000"/>
              </a:lnSpc>
              <a:spcBef>
                <a:spcPts val="451"/>
              </a:spcBef>
              <a:buClr>
                <a:srgbClr val="4f81bd"/>
              </a:buClr>
              <a:buSzPct val="80000"/>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 </a:t>
            </a:r>
            <a:r>
              <a:rPr b="0" lang="en-US" sz="1800" spc="-1" strike="noStrike">
                <a:solidFill>
                  <a:srgbClr val="ffc000"/>
                </a:solidFill>
                <a:latin typeface="Century Gothic"/>
              </a:rPr>
              <a:t>Freud wrote about the group as a very powerful medium in his work</a:t>
            </a:r>
            <a:endParaRPr b="0" lang="en-US" sz="1800" spc="-1" strike="noStrike">
              <a:solidFill>
                <a:srgbClr val="ffc000"/>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entury Gothic"/>
              </a:rPr>
              <a:t>,,GROUP PSYCHOLOGY AND EGO ANALYSIS,, 1921</a:t>
            </a:r>
            <a:r>
              <a:rPr b="0" lang="en-US" sz="1800" spc="-1" strike="noStrike">
                <a:solidFill>
                  <a:srgbClr val="ffc000"/>
                </a:solidFill>
                <a:latin typeface="Century Gothic"/>
              </a:rPr>
              <a:t>. Group therapy in the broadest sense gives an individual the opportunity to overcome the aforementioned obstacles through interactions with other members of the group. The indication area of application of group analysis is wide. Various psychological disorders can be treated in this way (neuroses, psychosomatic disorders, addictions, delinquency, borderline personality disorders, psychotic disorders). In addition, group analysis is indicated in the education of psychotherapists, doctors, medical workers, educators, and persons of other profiles who are professionally trained to work with people.      </a:t>
            </a:r>
            <a:endParaRPr b="0" lang="en-US" sz="1800" spc="-1" strike="noStrike">
              <a:solidFill>
                <a:srgbClr val="ffc000"/>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The group usually has six to ten members, who are a heterogeneous population in terms of depth of regression and manifest symptoms. Group sessions are organized twice a week, lasting 90 minutes. The group has an open door (the patient who finishes the therapy leaves the group, and a new member takes his place). The group analysis is led by an educated therapist, or by two therapists of the opposite sex (co-therapy couple). The technique of group analysis implies the confrontation and interpretation of those behaviors whose roots the patient often does not want to see, and at the same time needs to demonstrate them to other members of the group (hate, anger, love, envy, etc.).</a:t>
            </a:r>
            <a:endParaRPr b="0" lang="en-US" sz="18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57200" y="380880"/>
            <a:ext cx="8229600" cy="607392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b) Family and partnership psychotherapy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Family psychotherapy began to develop in the sixties of the last century and became an important part of treatment for a large number of mental disorders. By studying the etiology of mental disorders, many scientists conclude that significant etiological factors can be disturbed family relationships that lead to an inharmonious environment of growing up and inadequate communication in the parent-child relationship (concepts about the family dynamics of schizophrenic depressives and those suffering from addiction are well known).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On the other hand, the dynamics of the emergence of psychological disorders can be a consequence of the pathological behavior of the most dominant member, who abuses his members in various ways and, without finding a solution, the most vulnerable in the group will be the victim.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The indication area is wide, and the goals can be different, from the more superficial ones, which strive to establish more adequate communication between members, to the deeper ones, which penetrate the family dynamics to the level of enabling the growth and maturation of the family as a whole through psychotherapy.</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7200" y="609120"/>
            <a:ext cx="8229600" cy="584532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000"/>
                </a:solidFill>
                <a:latin typeface="Century Gothic"/>
              </a:rPr>
              <a:t>Partner psychotherapy techniques </a:t>
            </a:r>
            <a:endParaRPr b="0" lang="en-US" sz="3000" spc="-1" strike="noStrike">
              <a:solidFill>
                <a:srgbClr val="ffc000"/>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000"/>
                </a:solidFill>
                <a:latin typeface="Century Gothic"/>
              </a:rPr>
              <a:t>	</a:t>
            </a:r>
            <a:r>
              <a:rPr b="0" lang="en-US" sz="2400" spc="-1" strike="noStrike">
                <a:solidFill>
                  <a:srgbClr val="ffc000"/>
                </a:solidFill>
                <a:latin typeface="Century Gothic"/>
              </a:rPr>
              <a:t>are applied in the therapy of disturbed partner relationships. A disturbed communication relationship between two partners can be a consequence of the so-called complementary choice. It is an unconscious, neurotic choice, in which both partners try to satisfy their neurotic needs. On a conscious level, this kind of choice is often perceived as painful and painful, and problems in partner communication are almost inevitable. The goal of partner therapy is to improve partner communication and reintegrate relationships at a higher level.</a:t>
            </a:r>
            <a:endParaRPr b="0" lang="en-US" sz="24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457200" y="685440"/>
            <a:ext cx="8229600" cy="576900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c) </a:t>
            </a:r>
            <a:r>
              <a:rPr b="1" lang="en-US" sz="1900" spc="-1" strike="noStrike">
                <a:solidFill>
                  <a:srgbClr val="ffc000"/>
                </a:solidFill>
                <a:latin typeface="Century Gothic"/>
              </a:rPr>
              <a:t>Analytical psychodrama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en-US" sz="1900" spc="-1" strike="noStrike">
                <a:solidFill>
                  <a:srgbClr val="ffc000"/>
                </a:solidFill>
                <a:latin typeface="Century Gothic"/>
              </a:rPr>
              <a:t>It is associated with the name of J.L. Moren.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en-US" sz="1900" spc="-1" strike="noStrike">
                <a:solidFill>
                  <a:srgbClr val="ffc000"/>
                </a:solidFill>
                <a:latin typeface="Century Gothic"/>
              </a:rPr>
              <a:t>The technique is based on the basic principles of classical psychoanalysis and the essential goal is that the patient with neurotic disorders, in a spontaneous game, presents the phantasms that are the basis of his neurosis. In individual analytic psychodrama, several therapists work with one patient. The main therapist is distant and gives interpretations. Other therapists are occasionally involved in the game, and when they are not participating in it, they are in the role of the audience, which allows the patient's game to acquire a stage character. The duration of the analytical session is usually 20 minutes. In the group analytical psychodrama, several patients participate who make up the analytical group (5 or 6). The group is led by a co-therapy couple of different genders. Group analytic psychodrama always takes place in the same place and at the same time. Sessions are usually organized once a week for an hour and a half. Individual therapy is applied in the population of children with psychomotor disorders, in prepsychotic and psychotic states of children and adults. In adults, it is used for phobias, obsessive-compulsive disorders, neuroses of character, anxiety and depression.</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4. SUPPORTIVE PSYCHO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	</a:t>
            </a:r>
            <a:r>
              <a:rPr b="1" lang="en-US" sz="2100" spc="-1" strike="noStrike">
                <a:solidFill>
                  <a:srgbClr val="ffc000"/>
                </a:solidFill>
                <a:latin typeface="Century Gothic"/>
              </a:rPr>
              <a:t>Supporting</a:t>
            </a:r>
            <a:r>
              <a:rPr b="0" lang="en-US" sz="2100" spc="-1" strike="noStrike">
                <a:solidFill>
                  <a:srgbClr val="ffc000"/>
                </a:solidFill>
                <a:latin typeface="Century Gothic"/>
              </a:rPr>
              <a:t> therapies belong to the group of so-called superficial psychotherapeutic procedures. Therapeutic interventions aim to help an emotionally decompensated person to reintegrate, without "entering" into the discovery of deeply suppressed, unconscious intrapsychic conflicts and their interpretation. There are almost no conditions of emotional decompensation in which it is not possible to apply these forms of treatment. In addition, the application of these psychotherapeutic procedures is also important for somatic patients, because somatic illness is often accompanied by disorders of the intrapsychic balance that are manifested by fear, depressed mood, feelings of rejection and isolation, etc.. Supportive psychotherapy is often combined with psychopharmaceuticals, and in the case of some somatic diseases, is sometimes sufficient to establish a more appropriate psychological functioning, which is a consequence of disorders in the somatic sphere.</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457200" y="457200"/>
            <a:ext cx="8229600" cy="640080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c000"/>
                </a:solidFill>
                <a:latin typeface="Century Gothic"/>
              </a:rPr>
              <a:t>ENCOURAGEMENT AND SUPPORT THERAPY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en-US" sz="1900" spc="-1" strike="noStrike">
                <a:solidFill>
                  <a:srgbClr val="ffc000"/>
                </a:solidFill>
                <a:latin typeface="Century Gothic"/>
              </a:rPr>
              <a:t>is based on the establishment of a positive emotional relationship between the therapist and the doctor, which enables the provision of warm support, encouragement, and understanding, which the patient needs. This therapy is accompanied by giving advice and suggestive action based on the therapist's authority.</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Related to this therapy is the technique of </a:t>
            </a:r>
            <a:r>
              <a:rPr b="1" lang="en-US" sz="1900" spc="-1" strike="noStrike">
                <a:solidFill>
                  <a:srgbClr val="ffc000"/>
                </a:solidFill>
                <a:latin typeface="Century Gothic"/>
              </a:rPr>
              <a:t>CONFESSION and VENTILATION</a:t>
            </a:r>
            <a:r>
              <a:rPr b="0" lang="en-US" sz="1900" spc="-1" strike="noStrike">
                <a:solidFill>
                  <a:srgbClr val="ffc000"/>
                </a:solidFill>
                <a:latin typeface="Century Gothic"/>
              </a:rPr>
              <a:t>, when the therapist encourages the patient or persuades him to talk freely about his complaints and circumstances related to the current conflict situation.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GUIDANCE </a:t>
            </a:r>
            <a:r>
              <a:rPr b="0" lang="en-US" sz="1900" spc="-1" strike="noStrike">
                <a:solidFill>
                  <a:srgbClr val="ffc000"/>
                </a:solidFill>
                <a:latin typeface="Century Gothic"/>
              </a:rPr>
              <a:t>is a supportive intervention when the therapist takes an active role in bringing an activity plan related to the patient’s actions in the family, work, and social environment.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EDUCATION AND COUNSELING </a:t>
            </a:r>
            <a:r>
              <a:rPr b="0" lang="en-US" sz="1900" spc="-1" strike="noStrike">
                <a:solidFill>
                  <a:srgbClr val="ffc000"/>
                </a:solidFill>
                <a:latin typeface="Century Gothic"/>
              </a:rPr>
              <a:t>is a technique in which the therapist from a position of authority knows, encourages, understands, teaches the patient, gives him concrete advice, and suggests behaviors that would be significant for constructive action.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EXTERNALIZATION OF INTEREST </a:t>
            </a:r>
            <a:r>
              <a:rPr b="0" lang="en-US" sz="1900" spc="-1" strike="noStrike">
                <a:solidFill>
                  <a:srgbClr val="ffc000"/>
                </a:solidFill>
                <a:latin typeface="Century Gothic"/>
              </a:rPr>
              <a:t>is a technique that involves the active involvement of the patient in group activities.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SUGGESTION</a:t>
            </a:r>
            <a:r>
              <a:rPr b="0" lang="en-US" sz="1900" spc="-1" strike="noStrike">
                <a:solidFill>
                  <a:srgbClr val="ffc000"/>
                </a:solidFill>
                <a:latin typeface="Century Gothic"/>
              </a:rPr>
              <a:t> is a technique of superficial psychotherapy, which can be applied in regressive states in somatically ill persons, as well as in some neurotic states that are situationally determined.</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609480"/>
            <a:ext cx="8229600" cy="6096240"/>
          </a:xfrm>
          <a:prstGeom prst="rect">
            <a:avLst/>
          </a:prstGeom>
          <a:noFill/>
          <a:ln w="0">
            <a:noFill/>
          </a:ln>
        </p:spPr>
        <p:txBody>
          <a:bodyPr anchor="t">
            <a:normAutofit/>
          </a:bodyPr>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In the broadest sense of the word, psychotherapy is a psychological method of treating emotional disorders. </a:t>
            </a:r>
            <a:endParaRPr b="0" lang="en-US" sz="1900" spc="-1" strike="noStrike">
              <a:solidFill>
                <a:srgbClr val="ffc000"/>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The repertoire of psychotherapeutic techniques is large, from the so-called superficial ones</a:t>
            </a:r>
            <a:r>
              <a:rPr b="1" lang="sr-Latn-RS" sz="1900" spc="-1" strike="noStrike" u="sng">
                <a:solidFill>
                  <a:srgbClr val="ffc000"/>
                </a:solidFill>
                <a:uFillTx/>
                <a:latin typeface="Century Gothic"/>
              </a:rPr>
              <a:t>, </a:t>
            </a:r>
            <a:r>
              <a:rPr b="1" lang="en-US" sz="1900" spc="-1" strike="noStrike" u="sng">
                <a:solidFill>
                  <a:srgbClr val="ffc000"/>
                </a:solidFill>
                <a:uFillTx/>
                <a:latin typeface="Century Gothic"/>
              </a:rPr>
              <a:t>supportive,</a:t>
            </a:r>
            <a:r>
              <a:rPr b="0" lang="en-US" sz="1900" spc="-1" strike="noStrike">
                <a:solidFill>
                  <a:srgbClr val="ffc000"/>
                </a:solidFill>
                <a:latin typeface="Century Gothic"/>
              </a:rPr>
              <a:t> whose goals are aimed at solving current problems, to </a:t>
            </a:r>
            <a:r>
              <a:rPr b="1" lang="en-US" sz="1900" spc="-1" strike="noStrike" u="sng">
                <a:solidFill>
                  <a:srgbClr val="ffc000"/>
                </a:solidFill>
                <a:uFillTx/>
                <a:latin typeface="Century Gothic"/>
              </a:rPr>
              <a:t>psychodynamic</a:t>
            </a:r>
            <a:r>
              <a:rPr b="0" lang="en-US" sz="1900" spc="-1" strike="noStrike">
                <a:solidFill>
                  <a:srgbClr val="ffc000"/>
                </a:solidFill>
                <a:latin typeface="Century Gothic"/>
              </a:rPr>
              <a:t> and deep ones, which insist on solving unconscious, infantile intrapsychic conflicts, which are the basis of mental dysfunction and disturbed behavior. </a:t>
            </a:r>
            <a:endParaRPr b="0" lang="en-US" sz="1900" spc="-1" strike="noStrike">
              <a:solidFill>
                <a:srgbClr val="ffc000"/>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In other words, the common elements of all psychotherapy procedures are the elimination or reduction of manifest symptoms, the correction of disturbed behavior, and the establishment of a more adequate overall psychological functioning of the personality. </a:t>
            </a:r>
            <a:endParaRPr b="0" lang="en-US" sz="1900" spc="-1" strike="noStrike">
              <a:solidFill>
                <a:srgbClr val="ffc000"/>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What makes them different is the depth of the set goals. In this sense, psychodynamic techniques aim at the reconstruction of the personality through the awareness of pathological unconscious contents and their resolution, which is a condition for strengthening the Ego through gaining insight and replacing pathological defenses with more mature ones. In addition, some of the psychotherapy techniques can be applied to persons who do not exhibit psychopathology, to achieve more successful psychological development. Classical psychoanalysis and techniques that were created as a modification of psychoanalytical learning contributed to a better understanding of the psychological experiences of man in health and illness.</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5. NEOANALYSIS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Neoanalysis is a psychotherapy direction that was created on the foundations of classical psychoanalysis, with the fact that neoanalysts partially separated their teaching from classical psychoanalytical assumptions. Thus, they emphasize the importance of events “here and now”, and primarily treat manifest behavior as a reaction to current events, while ignoring the importance of instinctive impulses and infantile developmental conflicts that classical psychoanalysis insists on. Among the most famous neo-analysts are A. Adler, K. Hornaj, and others. A. Adler understands neurosis as a consequence of overcompensation of a deep feeling of inferiority in an individual, which is partly biologically determined, and partly a consequence of interaction with the environment. The goal of Adler's psychotherapy method would be to discover and change the wrong life goal and the activities that derive from it, as well as overcome feelings of inferiority and develop the need for emphasis and togetherness.</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6. BEHAVIORAL PSYCHO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Behavioral psychotherapy is a re-educational psychotherapy technique based on laboratory and empirically determined principles of learning through conditioning, which are embodied in practice under the name of the scientific discipline known as behaviorism. The basic assumption of behaviorists is that the laboratory model of experimental neurosis and disordered behavior can provide significant assumptions about the etiology of fear and neurotic manifestations in humans. Namely, the observed similarity between clinical and experimental neuroses points to the conclusion that neurotic symptoms in clinical neuroses can be understood as maladaptive patterns of behavior that are conditioned by the repetition of unpleasant experiences in which they originally occurred. The basic principles of behaviorism are based on the experimental experiences of Pavlov (Pavlov, 1927) and his teaching on conditioned reflexes.</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685440"/>
            <a:ext cx="8229600" cy="6095880"/>
          </a:xfrm>
          <a:prstGeom prst="rect">
            <a:avLst/>
          </a:prstGeom>
          <a:noFill/>
          <a:ln w="0">
            <a:noFill/>
          </a:ln>
        </p:spPr>
        <p:txBody>
          <a:bodyPr anchor="t">
            <a:normAutofit/>
          </a:bodyPr>
          <a:p>
            <a:pPr marL="447840" indent="-3826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The techniques of behavioral </a:t>
            </a:r>
            <a:r>
              <a:rPr b="1" lang="en-US" sz="1800" spc="-1" strike="noStrike">
                <a:solidFill>
                  <a:srgbClr val="ffc000"/>
                </a:solidFill>
                <a:latin typeface="Century Gothic"/>
              </a:rPr>
              <a:t>psychotherapy are based on several basic principles of behaviorism, namely: the principle of reciprocal inhibition, the principle of extinguishment, the principle of substitutive extinguishment, and the principle of reinforcement</a:t>
            </a:r>
            <a:r>
              <a:rPr b="0" lang="en-US" sz="1800" spc="-1" strike="noStrike">
                <a:solidFill>
                  <a:srgbClr val="ffc000"/>
                </a:solidFill>
                <a:latin typeface="Century Gothic"/>
              </a:rPr>
              <a:t>. </a:t>
            </a:r>
            <a:endParaRPr b="0" lang="en-US" sz="1800" spc="-1" strike="noStrike">
              <a:solidFill>
                <a:srgbClr val="ffc000"/>
              </a:solidFill>
              <a:latin typeface="Century Gothic"/>
            </a:endParaRPr>
          </a:p>
          <a:p>
            <a:pPr marL="447840" indent="-3826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Century Gothic"/>
            </a:endParaRPr>
          </a:p>
          <a:p>
            <a:pPr marL="447840" indent="-38268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The essence of the </a:t>
            </a:r>
            <a:r>
              <a:rPr b="1" lang="en-US" sz="1800" spc="-1" strike="noStrike">
                <a:solidFill>
                  <a:srgbClr val="ffc000"/>
                </a:solidFill>
                <a:latin typeface="Century Gothic"/>
              </a:rPr>
              <a:t>PRINCIPLE OF RECIPROCAL INHIBITION</a:t>
            </a:r>
            <a:r>
              <a:rPr b="0" lang="en-US" sz="1800" spc="-1" strike="noStrike">
                <a:solidFill>
                  <a:srgbClr val="ffc000"/>
                </a:solidFill>
                <a:latin typeface="Century Gothic"/>
              </a:rPr>
              <a:t> is that if, in the presence of a fear-inducing stimulus, reactions incompatible with fear are evoked, the fear fades or disappears. </a:t>
            </a:r>
            <a:endParaRPr b="0" lang="en-US" sz="1800" spc="-1" strike="noStrike">
              <a:solidFill>
                <a:srgbClr val="ffc000"/>
              </a:solidFill>
              <a:latin typeface="Century Gothic"/>
            </a:endParaRPr>
          </a:p>
          <a:p>
            <a:pPr marL="447840" indent="-38268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The </a:t>
            </a:r>
            <a:r>
              <a:rPr b="1" lang="en-US" sz="1800" spc="-1" strike="noStrike">
                <a:solidFill>
                  <a:srgbClr val="ffc000"/>
                </a:solidFill>
                <a:latin typeface="Century Gothic"/>
              </a:rPr>
              <a:t>EXTINGUISHING </a:t>
            </a:r>
            <a:r>
              <a:rPr b="0" lang="en-US" sz="1800" spc="-1" strike="noStrike">
                <a:solidFill>
                  <a:srgbClr val="ffc000"/>
                </a:solidFill>
                <a:latin typeface="Century Gothic"/>
              </a:rPr>
              <a:t>principle implies a progressive weakening of the conditioned reaction, if the same reaction that repeatedly occurred to the same stimulus, is not further reinforced. </a:t>
            </a:r>
            <a:endParaRPr b="0" lang="en-US" sz="1800" spc="-1" strike="noStrike">
              <a:solidFill>
                <a:srgbClr val="ffc000"/>
              </a:solidFill>
              <a:latin typeface="Century Gothic"/>
            </a:endParaRPr>
          </a:p>
          <a:p>
            <a:pPr marL="447840" indent="-38268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The principle of </a:t>
            </a:r>
            <a:r>
              <a:rPr b="1" lang="en-US" sz="1800" spc="-1" strike="noStrike">
                <a:solidFill>
                  <a:srgbClr val="ffc000"/>
                </a:solidFill>
                <a:latin typeface="Century Gothic"/>
              </a:rPr>
              <a:t>SUBSTITUTE EXTINGUISHMENT </a:t>
            </a:r>
            <a:r>
              <a:rPr b="0" lang="en-US" sz="1800" spc="-1" strike="noStrike">
                <a:solidFill>
                  <a:srgbClr val="ffc000"/>
                </a:solidFill>
                <a:latin typeface="Century Gothic"/>
              </a:rPr>
              <a:t>is based on the knowledge that observing a fearless model can be a way of de-escalating fear. </a:t>
            </a:r>
            <a:endParaRPr b="0" lang="en-US" sz="1800" spc="-1" strike="noStrike">
              <a:solidFill>
                <a:srgbClr val="ffc000"/>
              </a:solidFill>
              <a:latin typeface="Century Gothic"/>
            </a:endParaRPr>
          </a:p>
          <a:p>
            <a:pPr marL="447840" indent="-38268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The principle of </a:t>
            </a:r>
            <a:r>
              <a:rPr b="1" lang="en-US" sz="1800" spc="-1" strike="noStrike">
                <a:solidFill>
                  <a:srgbClr val="ffc000"/>
                </a:solidFill>
                <a:latin typeface="Century Gothic"/>
              </a:rPr>
              <a:t>COGNITIVE EXTINGUISHING </a:t>
            </a:r>
            <a:r>
              <a:rPr b="0" lang="en-US" sz="1800" spc="-1" strike="noStrike">
                <a:solidFill>
                  <a:srgbClr val="ffc000"/>
                </a:solidFill>
                <a:latin typeface="Century Gothic"/>
              </a:rPr>
              <a:t>is controversial in a certain sense from the perspective of behaviorists, and it implies the possibility of extinguishing fears by changing thought contents. </a:t>
            </a:r>
            <a:endParaRPr b="0" lang="en-US" sz="1800" spc="-1" strike="noStrike">
              <a:solidFill>
                <a:srgbClr val="ffc000"/>
              </a:solidFill>
              <a:latin typeface="Century Gothic"/>
            </a:endParaRPr>
          </a:p>
          <a:p>
            <a:pPr marL="447840" indent="-38268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The principle of </a:t>
            </a:r>
            <a:r>
              <a:rPr b="1" lang="en-US" sz="1800" spc="-1" strike="noStrike">
                <a:solidFill>
                  <a:srgbClr val="ffc000"/>
                </a:solidFill>
                <a:latin typeface="Century Gothic"/>
              </a:rPr>
              <a:t>CONFIRMATION </a:t>
            </a:r>
            <a:r>
              <a:rPr b="0" lang="en-US" sz="1800" spc="-1" strike="noStrike">
                <a:solidFill>
                  <a:srgbClr val="ffc000"/>
                </a:solidFill>
                <a:latin typeface="Century Gothic"/>
              </a:rPr>
              <a:t>is based on Skinner's so-called model. </a:t>
            </a:r>
            <a:r>
              <a:rPr b="1" lang="en-US" sz="1800" spc="-1" strike="noStrike">
                <a:solidFill>
                  <a:srgbClr val="ffc000"/>
                </a:solidFill>
                <a:latin typeface="Century Gothic"/>
              </a:rPr>
              <a:t>Operant conditioning. </a:t>
            </a:r>
            <a:r>
              <a:rPr b="0" lang="en-US" sz="1800" spc="-1" strike="noStrike">
                <a:solidFill>
                  <a:srgbClr val="ffc000"/>
                </a:solidFill>
                <a:latin typeface="Century Gothic"/>
              </a:rPr>
              <a:t>This model of conditioning occurs through the complex interplay of organism and environment. The action performed by the organism is labeled as operant behavior. The response of the environment is marked as reinforcement.</a:t>
            </a:r>
            <a:endParaRPr b="0" lang="en-US" sz="18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c000"/>
                </a:solidFill>
                <a:latin typeface="Century Gothic"/>
              </a:rPr>
              <a:t>TECHNIQUES OF BEHAVIORAL THERAPY</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c000"/>
                </a:solidFill>
                <a:latin typeface="Century Gothic"/>
              </a:rPr>
              <a:t>1. THERAPIES BASED ON THE PRINCIPLE OF RECIPROCAL INHIBITION</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c000"/>
              </a:solidFill>
              <a:latin typeface="Century Gothic"/>
            </a:endParaRPr>
          </a:p>
          <a:p>
            <a:pPr marL="447840" indent="-382680">
              <a:lnSpc>
                <a:spcPct val="80000"/>
              </a:lnSpc>
              <a:spcBef>
                <a:spcPts val="476"/>
              </a:spcBef>
              <a:buClr>
                <a:srgbClr val="4f81bd"/>
              </a:buClr>
              <a:buSzPct val="80000"/>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c000"/>
                </a:solidFill>
                <a:latin typeface="Century Gothic"/>
              </a:rPr>
              <a:t>Systematic desensitization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c000"/>
                </a:solidFill>
                <a:latin typeface="Century Gothic"/>
              </a:rPr>
              <a:t>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A technique that implies a therapeutic process of deconditioning fear, which is based on combined and alternating exposure of the subject to scenes that cause fear and muscle relaxation. Based on the data obtained during the behavioral analysis, a hierarchical scale is constructed on which the situations and stimuli that cause neurosis are ranked according to their strength. For muscle relaxation, different techniques are used, usually progressive muscle relaxation or autogenic training. Changes in cognitive, autonomous, and motor behavior are monitored using specially designed measuring instruments, and the procedure is repeated in the rhythm of one scene, one minute. The therapy ends when the fears disappear, which means when the subject no longer reacts with fear to the imagination or exposure of the aversive stimulus. Indication areas for the application of this technique are neuroses, depression, sexual dysfunctions, some behavioral disorders, etc.</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304560"/>
            <a:ext cx="8229600" cy="61498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b) Self-affirmation therapy (assertive training)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This technique is suitable in the therapy of some forms of depression, which are accompanied by a feeling of own inadequacy, low self-esteem, and withdrawal in terms of social communication. It can also be used for inhibited personality disorder. The technique involves arranging situations in which the subject, through an interview, a game, or role swapping, expresses his or her views of opposite anxiety.</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c) Flooding 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This technique involves exposing the subject for a longer period of time to aversive stimuli in imagination or in real-time. The subject must be informed about the goals of therapy, and the technique itself, with an explanation of the fact that exposure to stimuli that cause fear is a way to overcome fear and that behaviors based on avoiding such situations reinforce neurotic symptomatology. The session lasts at least an hour. The use of this therapy is contraindicated in heart patients and patients with serious respiratory disorders. The indication area of application is all forms of phobias. A modified variant of this therapy is IMPLOSIVE THERAPY.period</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57200" y="457200"/>
            <a:ext cx="8229600" cy="5997600"/>
          </a:xfrm>
          <a:prstGeom prst="rect">
            <a:avLst/>
          </a:prstGeom>
          <a:noFill/>
          <a:ln w="0">
            <a:noFill/>
          </a:ln>
        </p:spPr>
        <p:txBody>
          <a:bodyPr anchor="t">
            <a:normAutofit/>
          </a:bodyPr>
          <a:p>
            <a:pPr marL="4478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c000"/>
                </a:solidFill>
                <a:latin typeface="Century Gothic"/>
              </a:rPr>
              <a:t>d) Reaction inhibition technique     </a:t>
            </a:r>
            <a:endParaRPr b="0" lang="en-US" sz="2600" spc="-1" strike="noStrike">
              <a:solidFill>
                <a:srgbClr val="ffc000"/>
              </a:solidFill>
              <a:latin typeface="Century Gothic"/>
            </a:endParaRPr>
          </a:p>
          <a:p>
            <a:pPr marL="4478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Century Gothic"/>
            </a:endParaRPr>
          </a:p>
          <a:p>
            <a:pPr marL="4478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entury Gothic"/>
              </a:rPr>
              <a:t>	</a:t>
            </a:r>
            <a:r>
              <a:rPr b="0" lang="en-US" sz="2600" spc="-1" strike="noStrike">
                <a:solidFill>
                  <a:srgbClr val="ffc000"/>
                </a:solidFill>
                <a:latin typeface="Century Gothic"/>
              </a:rPr>
              <a:t>This technique has given good results in the treatment of obsessive-compulsive neurosis. Sometimes it is necessary to hospitalize the patient to apply this therapy. </a:t>
            </a:r>
            <a:endParaRPr b="0" lang="en-US" sz="2600" spc="-1" strike="noStrike">
              <a:solidFill>
                <a:srgbClr val="ffc000"/>
              </a:solidFill>
              <a:latin typeface="Century Gothic"/>
            </a:endParaRPr>
          </a:p>
          <a:p>
            <a:pPr marL="4478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entury Gothic"/>
              </a:rPr>
              <a:t>	</a:t>
            </a:r>
            <a:r>
              <a:rPr b="0" lang="en-US" sz="2600" spc="-1" strike="noStrike">
                <a:solidFill>
                  <a:srgbClr val="ffc000"/>
                </a:solidFill>
                <a:latin typeface="Century Gothic"/>
              </a:rPr>
              <a:t>Two variants of this technique are possible: </a:t>
            </a:r>
            <a:r>
              <a:rPr b="1" lang="en-US" sz="2600" spc="-1" strike="noStrike">
                <a:solidFill>
                  <a:srgbClr val="ffc000"/>
                </a:solidFill>
                <a:latin typeface="Century Gothic"/>
              </a:rPr>
              <a:t>therapy by restraining pathological cognitions and therapy by saturation.</a:t>
            </a:r>
            <a:r>
              <a:rPr b="0" lang="en-US" sz="2600" spc="-1" strike="noStrike">
                <a:solidFill>
                  <a:srgbClr val="ffc000"/>
                </a:solidFill>
                <a:latin typeface="Century Gothic"/>
              </a:rPr>
              <a:t> The first technique is performed by the patient entering a previously formed list of obsessions for 10 to 15 seconds. After that, the therapist interrupts this imagination with a sharp sound, and at the same time the patient says “Stop". Another variant involves longer maintenance (three to four minutes) of obsessive thoughts with the help of a therapist.</a:t>
            </a:r>
            <a:endParaRPr b="0" lang="en-US" sz="26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762120"/>
            <a:ext cx="8229600" cy="594360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THERAPIES BASED ON SUBSTITUTE QUENCHING</a:t>
            </a:r>
            <a:endParaRPr b="0" lang="en-US" sz="2100" spc="-1" strike="noStrike">
              <a:solidFill>
                <a:srgbClr val="ffc000"/>
              </a:solidFill>
              <a:latin typeface="Century Gothic"/>
            </a:endParaRPr>
          </a:p>
          <a:p>
            <a:pPr marL="447840" indent="-382680">
              <a:lnSpc>
                <a:spcPct val="80000"/>
              </a:lnSpc>
              <a:spcBef>
                <a:spcPts val="524"/>
              </a:spcBef>
              <a:buClr>
                <a:srgbClr val="4f81bd"/>
              </a:buClr>
              <a:buSzPct val="80000"/>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Modeling 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main indications for the application of this therapy are children's fears and autism. The essence of this therapy is that by observing a fearless model, whether living or symbolic (toy, film, etc.), the patient adopts his behavior and gets rid of fear (</a:t>
            </a:r>
            <a:r>
              <a:rPr b="1" lang="en-US" sz="2100" spc="-1" strike="noStrike">
                <a:solidFill>
                  <a:srgbClr val="ffc000"/>
                </a:solidFill>
                <a:latin typeface="Century Gothic"/>
              </a:rPr>
              <a:t>symbolic modeling</a:t>
            </a:r>
            <a:r>
              <a:rPr b="0" lang="en-US" sz="2100" spc="-1" strike="noStrike">
                <a:solidFill>
                  <a:srgbClr val="ffc000"/>
                </a:solidFill>
                <a:latin typeface="Century Gothic"/>
              </a:rPr>
              <a:t>). Another possibility is that the patient gradually makes direct contact with the objects of fear, after demonstrating the behavior of one or more models. Therapy is possible as individual and group therapy.</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b) Cognitive restructuring 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creators of this therapy are cognitively oriented behaviorists, who believe that some neurotic manifestations are based on cognitive distortions. In the first phase of therapy, the goal is to identify irrational thought contents, in the second, cognitive distortions and their connection with anxiety states are analyzed, and in the third, the patient is expected to replace these contents with adequate ones with the help of the therapist. This therapy has given very good results in the treatment of social phobia and agoraphobia.</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457200" y="685440"/>
            <a:ext cx="8229600" cy="576900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THERAPIES BASED ON THE PRINCIPLE OF REINFORCEMENT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Therapies that are based on the aforementioned principle are </a:t>
            </a:r>
            <a:r>
              <a:rPr b="1" lang="en-US" sz="2100" spc="-1" strike="noStrike">
                <a:solidFill>
                  <a:srgbClr val="ffc000"/>
                </a:solidFill>
                <a:latin typeface="Century Gothic"/>
              </a:rPr>
              <a:t>OPERANT CONDITIONING TECHNIQUE, ECONOMY THERAPY WITH COUPONS, AND SOCIAL SKILLS TRAINING</a:t>
            </a:r>
            <a:r>
              <a:rPr b="0" lang="en-US" sz="2100" spc="-1" strike="noStrike">
                <a:solidFill>
                  <a:srgbClr val="ffc000"/>
                </a:solidFill>
                <a:latin typeface="Century Gothic"/>
              </a:rPr>
              <a:t>. All three techniques are suitable for speech, work, and social rehabilitation of schizophrenic patients.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goal of operant conditioning is to develop motivation, improve communication with the environment, develop the ability to perform usual daily activities, up to the level of independent household management, etc.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therapy of economizing with coupons implies the introduction into the therapeutic program of coupons, which have the meaning of external positive or negative reinforcers. The patient can exchange the coupon for a specific source of his satisfaction (food, cigarettes, better room, etc.). This technique has a significant place in raising the patient's motivation for activities that take place in the surrounding world.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Social skills training is based on the principles of modeling, instruction, and role-playing.</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c000"/>
                </a:solidFill>
                <a:latin typeface="Century Gothic"/>
              </a:rPr>
              <a:t>7. COGNITIVE PSYCHOTHERAPY      </a:t>
            </a: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	</a:t>
            </a:r>
            <a:r>
              <a:rPr b="0" lang="en-US" sz="2300" spc="-1" strike="noStrike">
                <a:solidFill>
                  <a:srgbClr val="ffc000"/>
                </a:solidFill>
                <a:latin typeface="Century Gothic"/>
              </a:rPr>
              <a:t>The basic principles of cognitive psychotherapy are based on the knowledge that states of emotional decompensation are often the result of "wrong" interpretations of information, which at a certain moment for an individual have the importance of significant life events. The first to point out that the cognitive processing of events is crucial for the state of mind and lifestyle were the Stoic philosophers. The essence of the cognitive approach was explained in his theory by Albert Ellis in 1962. He insisted on the fact that emotional states are not a "simple and direct" reaction to certain information, but are primarily the result of the internal thought elaboration of events. That's how Albert Ellis set the ABC formula of emotional disorders, where A is the so-called activating event, B means beliefs, imagination, and self-verbalization, and C is a reaction.</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In the field of cognitive approach, two psychotherapy techniques were created: </a:t>
            </a:r>
            <a:r>
              <a:rPr b="1" lang="en-US" sz="2100" spc="-1" strike="noStrike">
                <a:solidFill>
                  <a:srgbClr val="ffc000"/>
                </a:solidFill>
                <a:latin typeface="Century Gothic"/>
              </a:rPr>
              <a:t>Albert Ellis's rational-emotional therapy and Beck's cognitive psychotherapy</a:t>
            </a:r>
            <a:r>
              <a:rPr b="0" lang="en-US" sz="2100" spc="-1" strike="noStrike">
                <a:solidFill>
                  <a:srgbClr val="ffc000"/>
                </a:solidFill>
                <a:latin typeface="Century Gothic"/>
              </a:rPr>
              <a:t>. Rational-emotional therapy is based on the identification of irrational premises that are remnants of children's understanding of the world or are the result of indoctrination with various prejudices by adults.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Albert Ellis divides cognitions into</a:t>
            </a:r>
            <a:r>
              <a:rPr b="0" lang="en-US" sz="2100" spc="-1" strike="noStrike">
                <a:solidFill>
                  <a:srgbClr val="ffc000"/>
                </a:solidFill>
                <a:latin typeface="Century Gothic"/>
              </a:rPr>
              <a:t>: </a:t>
            </a:r>
            <a:r>
              <a:rPr b="1" lang="en-US" sz="2100" spc="-1" strike="noStrike" u="sng">
                <a:solidFill>
                  <a:srgbClr val="ffc000"/>
                </a:solidFill>
                <a:uFillTx/>
                <a:latin typeface="Century Gothic"/>
              </a:rPr>
              <a:t>cold </a:t>
            </a:r>
            <a:r>
              <a:rPr b="0" lang="en-US" sz="2100" spc="-1" strike="noStrike">
                <a:solidFill>
                  <a:srgbClr val="ffc000"/>
                </a:solidFill>
                <a:latin typeface="Century Gothic"/>
              </a:rPr>
              <a:t>(those that do not include evaluation), </a:t>
            </a:r>
            <a:r>
              <a:rPr b="1" lang="en-US" sz="2100" spc="-1" strike="noStrike" u="sng">
                <a:solidFill>
                  <a:srgbClr val="ffc000"/>
                </a:solidFill>
                <a:uFillTx/>
                <a:latin typeface="Century Gothic"/>
              </a:rPr>
              <a:t>warm</a:t>
            </a:r>
            <a:r>
              <a:rPr b="0" lang="en-US" sz="2100" spc="-1" strike="noStrike">
                <a:solidFill>
                  <a:srgbClr val="ffc000"/>
                </a:solidFill>
                <a:latin typeface="Century Gothic"/>
              </a:rPr>
              <a:t> (those that include evaluation that is repulsive and disturbing) </a:t>
            </a:r>
            <a:r>
              <a:rPr b="1" lang="en-US" sz="2100" spc="-1" strike="noStrike" u="sng">
                <a:solidFill>
                  <a:srgbClr val="ffc000"/>
                </a:solidFill>
                <a:uFillTx/>
                <a:latin typeface="Century Gothic"/>
              </a:rPr>
              <a:t>and hot </a:t>
            </a:r>
            <a:r>
              <a:rPr b="0" lang="en-US" sz="2100" spc="-1" strike="noStrike">
                <a:solidFill>
                  <a:srgbClr val="ffc000"/>
                </a:solidFill>
                <a:latin typeface="Century Gothic"/>
              </a:rPr>
              <a:t>(which include the tyranny of having to, responsibility, command, etc.). Furthermore, Albert Ellis defined three basic irrational ideas that can be destructive to an individual's lifestyle and mental health.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ose settings are: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1. I must be successful, and complete and I must receive recognition from others;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2. The conditions in which I live must be and remain good, I must get everything that belongs to me;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3. The environment must treat me correctly, with love and attention.</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457200"/>
            <a:ext cx="8229600" cy="5997600"/>
          </a:xfrm>
          <a:prstGeom prst="rect">
            <a:avLst/>
          </a:prstGeom>
          <a:noFill/>
          <a:ln w="0">
            <a:noFill/>
          </a:ln>
        </p:spPr>
        <p:txBody>
          <a:bodyPr anchor="t">
            <a:normAutofit/>
          </a:bodyPr>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The psychotherapy process is a complex human relationship, which consists of emotional manifestations and meeting of feelings between the patient and the doctor, the psychotherapist. Authenticity is an important characteristic of this encounter and implies an environment of trust and security, a humanistic relationship and an expression of empathy, which creates a feeling of trust in the patient, which is necessary for the smooth running of the psychotherapy process. It is necessary that every psychiatrist has the required quantum of knowledge in the field of psychology and psychotherapy, because establishing adequate contact with the patient is a necessary precondition for successful treatment. Psychoanalysis and analytically oriented psychotherapies require special education of the therapist, who himself is analyzed by another psychoanalyst as part of the education in order to gain a better insight into his own, hidden intrapsychic contents.</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457200" y="761760"/>
            <a:ext cx="8229600" cy="569268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Beck believes that the basis of depressive disorders are irrational, </a:t>
            </a:r>
            <a:r>
              <a:rPr b="1" lang="en-US" sz="1900" spc="-1" strike="noStrike">
                <a:solidFill>
                  <a:srgbClr val="ffc000"/>
                </a:solidFill>
                <a:latin typeface="Century Gothic"/>
              </a:rPr>
              <a:t>automatic thoughts</a:t>
            </a:r>
            <a:r>
              <a:rPr b="0" lang="en-US" sz="1900" spc="-1" strike="noStrike">
                <a:solidFill>
                  <a:srgbClr val="ffc000"/>
                </a:solidFill>
                <a:latin typeface="Century Gothic"/>
              </a:rPr>
              <a:t>, which appear as a wrongly adopted model of thinking, which is repeated as a condition in some situations. In his theory, Beck introduces the term </a:t>
            </a:r>
            <a:r>
              <a:rPr b="1" lang="en-US" sz="1900" spc="-1" strike="noStrike">
                <a:solidFill>
                  <a:srgbClr val="ffc000"/>
                </a:solidFill>
                <a:latin typeface="Century Gothic"/>
              </a:rPr>
              <a:t>PERSONAL DOMAIN</a:t>
            </a:r>
            <a:r>
              <a:rPr b="0" lang="en-US" sz="1900" spc="-1" strike="noStrike">
                <a:solidFill>
                  <a:srgbClr val="ffc000"/>
                </a:solidFill>
                <a:latin typeface="Century Gothic"/>
              </a:rPr>
              <a:t>, which refers to an individual in the physical sense, his concept of himself, his personality characteristics, goals and values. Emotional states arise as a reaction to events, which the individual evaluates as pleasant or unpleasant, i.e. threatening or not in his personal domain. </a:t>
            </a:r>
            <a:r>
              <a:rPr b="1" lang="en-US" sz="1900" spc="-1" strike="noStrike">
                <a:solidFill>
                  <a:srgbClr val="ffc000"/>
                </a:solidFill>
                <a:latin typeface="Century Gothic"/>
              </a:rPr>
              <a:t>According to Beck, states of emotional decompensation arise as a result of an irrational assessment of an event, that is, its meaning in the personal domain</a:t>
            </a:r>
            <a:r>
              <a:rPr b="0" lang="en-US" sz="1900" spc="-1" strike="noStrike">
                <a:solidFill>
                  <a:srgbClr val="ffc000"/>
                </a:solidFill>
                <a:latin typeface="Century Gothic"/>
              </a:rPr>
              <a:t>. Thus, an unjust attack on the personal domain triggers a feeling of anger in the individual, the feeling of sadness is a consequence of the experience of loss, and the intensity of the feeling itself depends on the assessment of the significance of the loss for the personal domain, etc</a:t>
            </a:r>
            <a:r>
              <a:rPr b="1" lang="en-US" sz="1900" spc="-1" strike="noStrike">
                <a:solidFill>
                  <a:srgbClr val="ffc000"/>
                </a:solidFill>
                <a:latin typeface="Century Gothic"/>
              </a:rPr>
              <a:t>. Beck's triad responsible for depression includes: a negative interpretation of the self, a negative anticipation of the future, and a negative interpretation of the environment.</a:t>
            </a:r>
            <a:r>
              <a:rPr b="0" lang="en-US" sz="1900" spc="-1" strike="noStrike">
                <a:solidFill>
                  <a:srgbClr val="ffc000"/>
                </a:solidFill>
                <a:latin typeface="Century Gothic"/>
              </a:rPr>
              <a:t> The essence of the cognitive approach is based on the identification of irrational premises and their correction with the help of therapeutic techniques. Cognitive psychotherapy is successfully applied in the treatment of depression, anxiety, phobic and obsessive-compulsive and hypochondriacal disorders, some personality disorders, etc.</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8. TRANSACTION ANALYTICAL PSYCHO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Eric Berne’s transactional analysis is inspired by psychoanalytic, sociodynamic, and existentialist concepts. According to this theory, there are three Ego states in each personality, which have their own, clearly defined expression. These are the </a:t>
            </a:r>
            <a:r>
              <a:rPr b="1" lang="en-US" sz="2100" spc="-1" strike="noStrike">
                <a:solidFill>
                  <a:srgbClr val="ffc000"/>
                </a:solidFill>
                <a:latin typeface="Century Gothic"/>
              </a:rPr>
              <a:t>Ego state of a child </a:t>
            </a:r>
            <a:r>
              <a:rPr b="0" lang="en-US" sz="2100" spc="-1" strike="noStrike">
                <a:solidFill>
                  <a:srgbClr val="ffc000"/>
                </a:solidFill>
                <a:latin typeface="Century Gothic"/>
              </a:rPr>
              <a:t>(characterized by enormous energy and spontaneity of behavior), the </a:t>
            </a:r>
            <a:r>
              <a:rPr b="1" lang="en-US" sz="2100" spc="-1" strike="noStrike">
                <a:solidFill>
                  <a:srgbClr val="ffc000"/>
                </a:solidFill>
                <a:latin typeface="Century Gothic"/>
              </a:rPr>
              <a:t>Ego state of an adult </a:t>
            </a:r>
            <a:r>
              <a:rPr b="0" lang="en-US" sz="2100" spc="-1" strike="noStrike">
                <a:solidFill>
                  <a:srgbClr val="ffc000"/>
                </a:solidFill>
                <a:latin typeface="Century Gothic"/>
              </a:rPr>
              <a:t>(characterized by the ability to reconcile personal needs and demands of the external environment), and the </a:t>
            </a:r>
            <a:r>
              <a:rPr b="1" lang="en-US" sz="2100" spc="-1" strike="noStrike">
                <a:solidFill>
                  <a:srgbClr val="ffc000"/>
                </a:solidFill>
                <a:latin typeface="Century Gothic"/>
              </a:rPr>
              <a:t>Ego state of parents </a:t>
            </a:r>
            <a:r>
              <a:rPr b="0" lang="en-US" sz="2100" spc="-1" strike="noStrike">
                <a:solidFill>
                  <a:srgbClr val="ffc000"/>
                </a:solidFill>
                <a:latin typeface="Century Gothic"/>
              </a:rPr>
              <a:t>(which is manifested through internalized parental prohibitions). What underlies impaired interpersonal communication are play-based behaviors dictated by various ego states. </a:t>
            </a:r>
            <a:r>
              <a:rPr b="1" lang="en-US" sz="2100" spc="-1" strike="noStrike">
                <a:solidFill>
                  <a:srgbClr val="ffc000"/>
                </a:solidFill>
                <a:latin typeface="Century Gothic"/>
              </a:rPr>
              <a:t>The goal of transactional therapy for an adult patient is to encourage the achievement of independence from the parent's ego state and to overcome the need for play determined by the child's ego state</a:t>
            </a:r>
            <a:r>
              <a:rPr b="0" lang="en-US" sz="2100" spc="-1" strike="noStrike">
                <a:solidFill>
                  <a:srgbClr val="ffc000"/>
                </a:solidFill>
                <a:latin typeface="Century Gothic"/>
              </a:rPr>
              <a:t>. The therapy is used in the treatment of neurotic patients, and it can also be used in healthy patients to achieve better communication.</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609480" y="609480"/>
            <a:ext cx="8229600" cy="6019920"/>
          </a:xfrm>
          <a:prstGeom prst="rect">
            <a:avLst/>
          </a:prstGeom>
          <a:noFill/>
          <a:ln w="0">
            <a:noFill/>
          </a:ln>
        </p:spPr>
        <p:txBody>
          <a:bodyPr anchor="t">
            <a:normAutofit fontScale="80000"/>
          </a:bodyPr>
          <a:p>
            <a:pPr marL="358200" indent="-3060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9. GESTALT PSYCHOTHERAPY</a:t>
            </a:r>
            <a:endParaRPr b="0" lang="en-US" sz="2100" spc="-1" strike="noStrike">
              <a:solidFill>
                <a:srgbClr val="ffc000"/>
              </a:solidFill>
              <a:latin typeface="Century Gothic"/>
            </a:endParaRPr>
          </a:p>
          <a:p>
            <a:pPr marL="358200" indent="-3060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1" lang="en-US" sz="2100" spc="-1" strike="noStrike">
                <a:solidFill>
                  <a:srgbClr val="ffc000"/>
                </a:solidFill>
                <a:latin typeface="Century Gothic"/>
              </a:rPr>
              <a:t>Gestalt is a German word that means wholeness, configuration, completeness, and uniqueness of form.</a:t>
            </a:r>
            <a:endParaRPr b="0" lang="en-US" sz="2100" spc="-1" strike="noStrike">
              <a:solidFill>
                <a:srgbClr val="ffc000"/>
              </a:solidFill>
              <a:latin typeface="Century Gothic"/>
            </a:endParaRPr>
          </a:p>
          <a:p>
            <a:pPr marL="358200" indent="-3060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The starting point of the Gestalt approach was classical psychoanalysis so that </a:t>
            </a:r>
            <a:r>
              <a:rPr b="1" lang="en-US" sz="2100" spc="-1" strike="noStrike">
                <a:solidFill>
                  <a:srgbClr val="ffc000"/>
                </a:solidFill>
                <a:latin typeface="Century Gothic"/>
              </a:rPr>
              <a:t>Gestalt therapists would quickly realize that forcing the principle of “here and now” is much more important than analyzing events from the past.</a:t>
            </a:r>
            <a:r>
              <a:rPr b="0" lang="en-US" sz="2100" spc="-1" strike="noStrike">
                <a:solidFill>
                  <a:srgbClr val="ffc000"/>
                </a:solidFill>
                <a:latin typeface="Century Gothic"/>
              </a:rPr>
              <a:t> The basic principles of Gestalt therapy came from the knowledge of functioning in nature, the human organism, and its healthy and spontaneous behavior. According to Perls (Perls, 1947)) the founder of the Gestalt approach, the organism is an open system that is in contact with itself and that directs itself. The relationship between the organism and its environment is very important for organic self-regulation. The organism and its environment represent a mutually dependent whole.</a:t>
            </a:r>
            <a:endParaRPr b="0" lang="en-US" sz="2100" spc="-1" strike="noStrike">
              <a:solidFill>
                <a:srgbClr val="ffc000"/>
              </a:solidFill>
              <a:latin typeface="Century Gothic"/>
            </a:endParaRPr>
          </a:p>
          <a:p>
            <a:pPr marL="358200" indent="-3060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The undifferentiated field or background in Gestalt therapy is represented by the unity of organism and environment. The figure is the center of attention and activity.</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533160"/>
            <a:ext cx="8229600" cy="60958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The formation of a gestalt or the formation of a figure is a process of formation of attention and activity. </a:t>
            </a:r>
            <a:r>
              <a:rPr b="1" lang="en-US" sz="2100" spc="-1" strike="noStrike">
                <a:solidFill>
                  <a:srgbClr val="ffc000"/>
                </a:solidFill>
                <a:latin typeface="Century Gothic"/>
              </a:rPr>
              <a:t>The formation of a gestalt is an act of creation, and its destruction is an act of destruction. In gestalt therapy, aggression is understood as everything that the organism does to establish contact with its environment.</a:t>
            </a:r>
            <a:r>
              <a:rPr b="0" lang="en-US" sz="2100" spc="-1" strike="noStrike">
                <a:solidFill>
                  <a:srgbClr val="ffc000"/>
                </a:solidFill>
                <a:latin typeface="Century Gothic"/>
              </a:rPr>
              <a:t> At the same time, the fact that the organism cannot develop without communication with the environment is emphasized.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The Gestalt personality model implies the existence of three structures: ORGANISM, SELF and EGO. </a:t>
            </a:r>
            <a:r>
              <a:rPr b="0" lang="en-US" sz="2100" spc="-1" strike="noStrike">
                <a:solidFill>
                  <a:srgbClr val="ffc000"/>
                </a:solidFill>
                <a:latin typeface="Century Gothic"/>
              </a:rPr>
              <a:t>Organism is a term that includes all biological and psychological structures, functions, and processes.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SELF implies cognitive, emotional, and physical aspects of personality that lead to creative adaptation.</a:t>
            </a:r>
            <a:r>
              <a:rPr b="0" lang="en-US" sz="2100" spc="-1" strike="noStrike">
                <a:solidFill>
                  <a:srgbClr val="ffc000"/>
                </a:solidFill>
                <a:latin typeface="Century Gothic"/>
              </a:rPr>
              <a:t> The term Ego in Gestalt therapy is similar to the meaning of that term in classical psychoanalysis. While the Self is the system of contacts of the organism with the environment, the Ego represents the identification with those contacts. The means that the Gestalt therapist uses in the therapeutic process are </a:t>
            </a:r>
            <a:r>
              <a:rPr b="1" lang="en-US" sz="2100" spc="-1" strike="noStrike">
                <a:solidFill>
                  <a:srgbClr val="ffc000"/>
                </a:solidFill>
                <a:latin typeface="Century Gothic"/>
              </a:rPr>
              <a:t>awareness, experimentation and encounter.,</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457200" y="304560"/>
            <a:ext cx="8229600" cy="6149880"/>
          </a:xfrm>
          <a:prstGeom prst="rect">
            <a:avLst/>
          </a:prstGeom>
          <a:noFill/>
          <a:ln w="0">
            <a:noFill/>
          </a:ln>
        </p:spPr>
        <p:txBody>
          <a:bodyPr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entury Gothic"/>
              </a:rPr>
              <a:t>In this sense, gestalt therapy is the possibility of examining how we succeed or fail to solve the problems we encounter, intending to increase our awareness of this, which is the </a:t>
            </a:r>
            <a:r>
              <a:rPr b="1" lang="en-US" sz="2600" spc="-1" strike="noStrike">
                <a:solidFill>
                  <a:srgbClr val="ffc000"/>
                </a:solidFill>
                <a:latin typeface="Century Gothic"/>
              </a:rPr>
              <a:t>possibility of changing our functioning through the achievement of awareness and through experiment in the sense of achieving a more suitable</a:t>
            </a:r>
            <a:r>
              <a:rPr b="0" lang="en-US" sz="2600" spc="-1" strike="noStrike">
                <a:solidFill>
                  <a:srgbClr val="ffc000"/>
                </a:solidFill>
                <a:latin typeface="Century Gothic"/>
              </a:rPr>
              <a:t>. Gestalt therapy is applied to healthy people who face certain difficulties in life, as a therapy for neuroses and borderline conditions. In addition, it finds its application in working with children in preschool and school institutions, work, and other organizations and groups.</a:t>
            </a:r>
            <a:endParaRPr b="0" lang="en-US" sz="26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10. SYSTEMIC FAMILY PSYCHO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Systemic family psychotherapy is a psychosocial intervention aimed at the family as a whole. As part of the systemic family approach, the pathological behavior of one member is seen as part of the complex matrix of the general family system. The ultimate goals of systemic family therapy are the reduction and elimination of symptoms in one or more members, resolution of marital-partner and family conflict and increase of marital and family intimacy, solution of the problem presented to the therapist, increase of tolerance of differences between family members, change of family behavior pattern and increase self-respect and mutual respect among family members. Indications for the application of systemic family psychotherapy are the existence of an identified patient in the family who is a carrier of psychiatric symptoms, then the existence of developmental and non-developmental family crises, the existence of separation problems in different dyads (twins, parent-child, divorce between partners), etc.</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57200" y="761760"/>
            <a:ext cx="8229600" cy="56926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11. SHIKZAL ANALYSIS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Shikzal analysis (shikzal - analysis) is associated with the name of Leopold S. (1893-1968), whose teaching represents a bridge between the classical psychoanalysis of S. Freud and the arche-analysis of K.G. Jung. By analyzing a huge number of genealogical trees, he discovered the existence of the </a:t>
            </a:r>
            <a:r>
              <a:rPr b="1" lang="en-US" sz="2100" spc="-1" strike="noStrike">
                <a:solidFill>
                  <a:srgbClr val="ffc000"/>
                </a:solidFill>
                <a:latin typeface="Century Gothic"/>
              </a:rPr>
              <a:t>so-called familial unconscious</a:t>
            </a:r>
            <a:r>
              <a:rPr b="0" lang="en-US" sz="2100" spc="-1" strike="noStrike">
                <a:solidFill>
                  <a:srgbClr val="ffc000"/>
                </a:solidFill>
                <a:latin typeface="Century Gothic"/>
              </a:rPr>
              <a:t>, which is located between </a:t>
            </a:r>
            <a:r>
              <a:rPr b="1" lang="en-US" sz="2100" spc="-1" strike="noStrike">
                <a:solidFill>
                  <a:srgbClr val="ffc000"/>
                </a:solidFill>
                <a:latin typeface="Century Gothic"/>
              </a:rPr>
              <a:t>Freud's individual unconscious and Jung's collective unconscious</a:t>
            </a:r>
            <a:r>
              <a:rPr b="0" lang="en-US" sz="2100" spc="-1" strike="noStrike">
                <a:solidFill>
                  <a:srgbClr val="ffc000"/>
                </a:solidFill>
                <a:latin typeface="Century Gothic"/>
              </a:rPr>
              <a:t>. Just as the individual and collective unconscious have their own representations, in unconsciously repressed contents and archetypes, the representations of the familial unconscious are latent recessive genes. Regardless of the priority of dominant genes, these genes are very active. The individual, collective, and family unconscious are three layers of the unconscious, each of which in its own way governs a person's behavior and destiny.</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57200" y="609120"/>
            <a:ext cx="8229600" cy="5845320"/>
          </a:xfrm>
          <a:prstGeom prst="rect">
            <a:avLst/>
          </a:prstGeom>
          <a:noFill/>
          <a:ln w="0">
            <a:noFill/>
          </a:ln>
        </p:spPr>
        <p:txBody>
          <a:bodyPr anchor="t">
            <a:normAutofit/>
          </a:bodyPr>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	</a:t>
            </a:r>
            <a:r>
              <a:rPr b="0" lang="en-US" sz="2600" spc="-1" strike="noStrike">
                <a:solidFill>
                  <a:srgbClr val="ffc000"/>
                </a:solidFill>
                <a:latin typeface="Century Gothic"/>
              </a:rPr>
              <a:t>Representative of the familial unconscious is latent recessive genes, inherited material from ancestors, which determine five important choices in life, namely: </a:t>
            </a:r>
            <a:endParaRPr b="0" lang="en-US" sz="2600" spc="-1" strike="noStrike">
              <a:solidFill>
                <a:srgbClr val="ffc000"/>
              </a:solidFill>
              <a:latin typeface="Century Gothic"/>
            </a:endParaRPr>
          </a:p>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000"/>
                </a:solidFill>
                <a:latin typeface="Century Gothic"/>
              </a:rPr>
              <a:t>	</a:t>
            </a:r>
            <a:r>
              <a:rPr b="1" lang="en-US" sz="2600" spc="-1" strike="noStrike">
                <a:solidFill>
                  <a:srgbClr val="ffc000"/>
                </a:solidFill>
                <a:latin typeface="Century Gothic"/>
              </a:rPr>
              <a:t>choice of love object, choice of profession, choice of friends and ideals, the disease from which the individual will get sick, and how someone will die.</a:t>
            </a:r>
            <a:endParaRPr b="0" lang="en-US" sz="2600" spc="-1" strike="noStrike">
              <a:solidFill>
                <a:srgbClr val="ffc000"/>
              </a:solidFill>
              <a:latin typeface="Century Gothic"/>
            </a:endParaRPr>
          </a:p>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entury Gothic"/>
              </a:rPr>
              <a:t>	</a:t>
            </a:r>
            <a:r>
              <a:rPr b="0" lang="en-US" sz="2600" spc="-1" strike="noStrike">
                <a:solidFill>
                  <a:srgbClr val="ffc000"/>
                </a:solidFill>
                <a:latin typeface="Century Gothic"/>
              </a:rPr>
              <a:t>The goal of schizal-analytical therapy is to reveal the familiar unconscious, that is, to bring to consciousness repressed contents that are determined by latent recessive genes, which is a way of freeing the Ego and the possibility of building a new Ego, which will be capable of more mature existential choices.</a:t>
            </a:r>
            <a:endParaRPr b="0" lang="en-US" sz="26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7200" y="685800"/>
            <a:ext cx="8229600" cy="548640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c000"/>
                </a:solidFill>
                <a:latin typeface="Century Gothic"/>
              </a:rPr>
              <a:t>OTHER PSYCHOTHERAPY DIRECTIONS</a:t>
            </a:r>
            <a:endParaRPr b="0" lang="en-US" sz="2300" spc="-1" strike="noStrike">
              <a:solidFill>
                <a:srgbClr val="ffc000"/>
              </a:solidFill>
              <a:latin typeface="Century Gothic"/>
            </a:endParaRPr>
          </a:p>
          <a:p>
            <a:pPr marL="447840" indent="-382680">
              <a:lnSpc>
                <a:spcPct val="80000"/>
              </a:lnSpc>
              <a:spcBef>
                <a:spcPts val="575"/>
              </a:spcBef>
              <a:buClr>
                <a:srgbClr val="4f81bd"/>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c000"/>
                </a:solidFill>
                <a:latin typeface="Century Gothic"/>
              </a:rPr>
              <a:t>Client-centered therapy (K.G. Rogers)       </a:t>
            </a:r>
            <a:endParaRPr b="0" lang="en-US" sz="2300" spc="-1" strike="noStrike">
              <a:solidFill>
                <a:srgbClr val="ffc000"/>
              </a:solidFill>
              <a:latin typeface="Century Gothic"/>
            </a:endParaRPr>
          </a:p>
          <a:p>
            <a:pPr marL="447840" indent="-382680">
              <a:lnSpc>
                <a:spcPct val="80000"/>
              </a:lnSpc>
              <a:spcBef>
                <a:spcPts val="575"/>
              </a:spcBef>
              <a:buClr>
                <a:srgbClr val="4f81bd"/>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Client-directed therapy is based on the establishment of an equal communication relationship between the therapist and the client, which is based on an optimistic belief in the ability of people to solve their own problems. The patient is first introduced to the time limitation of therapy, its techniques and rules of behavior during the therapeutic process. Throughout the therapeutic process, the patient is active in the sense that he openly talks about his ambitions, desires, frustrations and pleasures. The therapist plays the role of a patient listener who does not criticize, interpret, or encourage, which is a way for the patient to draw his own conclusions, which would be important in encouraging a change in his lifestyle and establishing a more appropriate overall functioning of his personality.</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c000"/>
                </a:solidFill>
                <a:latin typeface="Century Gothic"/>
              </a:rPr>
              <a:t>2. Existentialist psychotherapy methods       </a:t>
            </a:r>
            <a:endParaRPr b="0" lang="en-US" sz="1700" spc="-1" strike="noStrike">
              <a:solidFill>
                <a:srgbClr val="ffc000"/>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c000"/>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Century Gothic"/>
              </a:rPr>
              <a:t>	</a:t>
            </a:r>
            <a:r>
              <a:rPr b="0" lang="en-US" sz="1700" spc="-1" strike="noStrike">
                <a:solidFill>
                  <a:srgbClr val="ffc000"/>
                </a:solidFill>
                <a:latin typeface="Century Gothic"/>
              </a:rPr>
              <a:t>As part of existentialist-oriented psychotherapy, two schools are best known: </a:t>
            </a:r>
            <a:r>
              <a:rPr b="1" lang="en-US" sz="1700" spc="-1" strike="noStrike">
                <a:solidFill>
                  <a:srgbClr val="ffc000"/>
                </a:solidFill>
                <a:latin typeface="Century Gothic"/>
              </a:rPr>
              <a:t>the phenomenologically oriented school and existentialist analysis</a:t>
            </a:r>
            <a:r>
              <a:rPr b="0" lang="en-US" sz="1700" spc="-1" strike="noStrike">
                <a:solidFill>
                  <a:srgbClr val="ffc000"/>
                </a:solidFill>
                <a:latin typeface="Century Gothic"/>
              </a:rPr>
              <a:t>. </a:t>
            </a:r>
            <a:endParaRPr b="0" lang="en-US" sz="1700" spc="-1" strike="noStrike">
              <a:solidFill>
                <a:srgbClr val="ffc000"/>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c000"/>
                </a:solidFill>
                <a:latin typeface="Century Gothic"/>
              </a:rPr>
              <a:t>Phenomenologically oriented psychotherapists </a:t>
            </a:r>
            <a:r>
              <a:rPr b="0" lang="en-US" sz="1700" spc="-1" strike="noStrike">
                <a:solidFill>
                  <a:srgbClr val="ffc000"/>
                </a:solidFill>
                <a:latin typeface="Century Gothic"/>
              </a:rPr>
              <a:t>pay particular attention to the most accurate description of the mental patient's subjective experience, trying to immerse themselves in this experience as empathetically as possible. The goal of such an approach is to establish connections between experienced phenomena, to discover a common parameter of the entire content of consciousness, and to find a genetic factor that would be important for the emergence of symptoms and the entire content of consciousness. </a:t>
            </a:r>
            <a:endParaRPr b="0" lang="en-US" sz="1700" spc="-1" strike="noStrike">
              <a:solidFill>
                <a:srgbClr val="ffc000"/>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c000"/>
                </a:solidFill>
                <a:latin typeface="Century Gothic"/>
              </a:rPr>
              <a:t>Existence is a special form of human existence. </a:t>
            </a:r>
            <a:r>
              <a:rPr b="0" lang="en-US" sz="1700" spc="-1" strike="noStrike">
                <a:solidFill>
                  <a:srgbClr val="ffc000"/>
                </a:solidFill>
                <a:latin typeface="Century Gothic"/>
              </a:rPr>
              <a:t>As part of existentialism, man is treated as a being that is not given once and for all, but rather He is a being that is "able to". Existentialist analysis takes into account the entire structure of individual existence, and at the same time acquires that an individual can simultaneously live in parallel existences, which are sometimes in conflict. The term existential form of existence means an individual existential relationship towards other people. These analysts emphasize the importance of the authentic encounter between the therapist and the patient. Such an encounter gives a chance to discover potential inner possibilities, the release of which leads to the establishment of a more authentic existential form of existence.</a:t>
            </a:r>
            <a:endParaRPr b="0" lang="en-US" sz="17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457200" y="268200"/>
            <a:ext cx="8229600" cy="1395360"/>
          </a:xfrm>
          <a:prstGeom prst="rect">
            <a:avLst/>
          </a:prstGeom>
          <a:ln w="0">
            <a:noFill/>
          </a:ln>
        </p:spPr>
      </p:pic>
      <p:sp>
        <p:nvSpPr>
          <p:cNvPr id="312" name=""/>
          <p:cNvSpPr txBox="1"/>
          <p:nvPr/>
        </p:nvSpPr>
        <p:spPr>
          <a:xfrm>
            <a:off x="457200" y="1676520"/>
            <a:ext cx="8229600" cy="4975200"/>
          </a:xfrm>
          <a:prstGeom prst="rect">
            <a:avLst/>
          </a:prstGeom>
          <a:noFill/>
          <a:ln w="0">
            <a:noFill/>
          </a:ln>
        </p:spPr>
        <p:txBody>
          <a:bodyPr anchor="t">
            <a:normAutofit/>
          </a:bodyPr>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psychotherapeutic interview is the starting point for all types of psychotherapy. In addition to observing the patient and his problems, the goal of the interview is to establish a positive emotional relationship and a relationship of trust between the patient and the therapist. A psychoanalytic interview has its own peculiarities. It involves establishing a dynamic diagnosis, evaluating indications and timeliness of therapy. It is recommended that the first interview lasts from 30 to 40 minutes. An important part of the interview is looking at the patient's personal history. The therapist tries to find out as much as possible about the relationships that the patient established with primary objects in the early periods of childhood, furthermore, he is interested in his communications in the group with peers in preschool and school age, then important data about relationships in the current family, social and working environment. Information related to the patient's sexual life is especially important.</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2. LOGO 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The founder of logotherapy is Viennese psychiatrist Victor E. Frankl. Logos is an ancient Greek word, which has several meanings, one of which is used in the name of this therapy, which is </a:t>
            </a:r>
            <a:r>
              <a:rPr b="1" lang="en-US" sz="2100" spc="-1" strike="noStrike">
                <a:solidFill>
                  <a:srgbClr val="ffc000"/>
                </a:solidFill>
                <a:latin typeface="Century Gothic"/>
              </a:rPr>
              <a:t>MEANING. Logotherapy is, in a way, treatment by searching for meaning</a:t>
            </a:r>
            <a:r>
              <a:rPr b="0" lang="en-US" sz="2100" spc="-1" strike="noStrike">
                <a:solidFill>
                  <a:srgbClr val="ffc000"/>
                </a:solidFill>
                <a:latin typeface="Century Gothic"/>
              </a:rPr>
              <a:t>. The entire teaching is based on the knowledge of the logotherapist that there is meaning in everything that happens to us and in everything that surrounds us. In other words, man is a being of freedom to the extent that he is a "being of possibilit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Two other important postulates in logotherapy are freedom and self-separation</a:t>
            </a:r>
            <a:r>
              <a:rPr b="0" lang="en-US" sz="2100" spc="-1" strike="noStrike">
                <a:solidFill>
                  <a:srgbClr val="ffc000"/>
                </a:solidFill>
                <a:latin typeface="Century Gothic"/>
              </a:rPr>
              <a:t>. In addition, man has the ability to self-detach, that is, to take a certain attitude towards his own experiences and preoccupations. The fourth important moment in logotherapy is</a:t>
            </a:r>
            <a:r>
              <a:rPr b="1" lang="en-US" sz="2100" spc="-1" strike="noStrike">
                <a:solidFill>
                  <a:srgbClr val="ffc000"/>
                </a:solidFill>
                <a:latin typeface="Century Gothic"/>
              </a:rPr>
              <a:t> self-transcendence</a:t>
            </a:r>
            <a:r>
              <a:rPr b="0" lang="en-US" sz="2100" spc="-1" strike="noStrike">
                <a:solidFill>
                  <a:srgbClr val="ffc000"/>
                </a:solidFill>
                <a:latin typeface="Century Gothic"/>
              </a:rPr>
              <a:t>, which means a person's ability to overcome himself, thus establishing a relationship with something outside himself. The essential goal of logotherapy is to make a person responsible for finding the meaning of his own life.</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838080"/>
            <a:ext cx="8229600" cy="561672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According to Viktor Frankl, meaning can be found through the realization of a great work, through the experience of some value, and above all love and through patience. Regarding suffering, it is important to point out that it is suffering that is not an end in itself, but a state that leads to finding meaning.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According to Frankl, if a person's striving for meaning is thwarted, the so-called </a:t>
            </a:r>
            <a:r>
              <a:rPr b="1" lang="en-US" sz="2100" spc="-1" strike="noStrike">
                <a:solidFill>
                  <a:srgbClr val="ffc000"/>
                </a:solidFill>
                <a:latin typeface="Century Gothic"/>
              </a:rPr>
              <a:t>Noogenic or existential neuroses</a:t>
            </a:r>
            <a:r>
              <a:rPr b="0" lang="en-US" sz="2100" spc="-1" strike="noStrike">
                <a:solidFill>
                  <a:srgbClr val="ffc000"/>
                </a:solidFill>
                <a:latin typeface="Century Gothic"/>
              </a:rPr>
              <a:t>. In other words, the void in man that has arisen as a consequence of the absence of the search for meaning is the cause of many pathological states of mind.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The two basic techniques of logotherapy are the technique of paradoxical intention and the technique of dereflection.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first technique is successfully applied in the treatment of phobic and obsessive-compulsive disorders. The technique is based on continuously imagining that fears, compulsions and obsessions that are the source of fear will "happen". distance from the current sexual problem.,</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000"/>
                </a:solidFill>
                <a:latin typeface="Century Gothic"/>
              </a:rPr>
              <a:t>3. MOVEMENT OF BALINT'S GROUPS       </a:t>
            </a: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The founder of Balint's groups is the Budapest psychoanalyst M. Balint. His groups brought together general practitioners, who presented their experiences in working with patients at those meetings. In addition to conducting education in psychoanalysis, M. Balint analyzed their personalities in parallel through the practical work of doctors with patients. This way of working is highly valued in the world because it represents a useful combination of educational and supervisory work. The potential of Balint's groups is huge because it provides participants with a useful combination of supervision and education, and because the initial instance is a professional role, these groups seem less anxiety-inducing and less inhibiting to the members than is the case in the first stages of work in didactic groups.</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536400" y="1981080"/>
            <a:ext cx="8229600" cy="1401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761760"/>
            <a:ext cx="8229600" cy="56926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Sociotherapy is an integral, integral part of the treatment of mentally ill persons. As part of the treatment of mental disorders, it occupies an important place, given that it is a repertoire of therapeutic procedures aimed at achieving the highest quality resocialization of mentally ill persons. </a:t>
            </a:r>
            <a:r>
              <a:rPr b="1" lang="en-US" sz="2100" spc="-1" strike="noStrike">
                <a:solidFill>
                  <a:srgbClr val="ffc000"/>
                </a:solidFill>
                <a:latin typeface="Century Gothic"/>
              </a:rPr>
              <a:t>The goal of the therapeutic program is to encourage the sick person to engage in social communication and all kinds of social activities, which is a way of overcoming feelings of loneliness, isolation from the group, insecurity, but also the possibility of realizing creative potential. </a:t>
            </a:r>
            <a:r>
              <a:rPr b="0" lang="en-US" sz="2100" spc="-1" strike="noStrike">
                <a:solidFill>
                  <a:srgbClr val="ffc000"/>
                </a:solidFill>
                <a:latin typeface="Century Gothic"/>
              </a:rPr>
              <a:t>Participation in group activities gives the possibility of overcoming the limitations of individual treatment. For the first time, group (psycho) therapy was applied in work with tuberculosis patients by J. Pratt in 1905. In Europe. A. Adler was the first to start applying group (psycho) therapy, which at that time was called "collective therapy". As early as 1920, the group therapy approach was applied in pedagogical educational centers in Vienna.</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7200" y="685440"/>
            <a:ext cx="8229600" cy="576900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In the broadest sense, group psychotherapy activities provide the opportunity to more easily release hidden, repressed pathological contents through interaction in the group. In addition, the group offers an experience of reality through a more adequate understanding of one's own and others' personalities and thus socializes its members. Interactions in the group are a way of restoring the patient's interest in the ambient reality. The feeling of belonging, which is characteristic of the social dimension of human </a:t>
            </a:r>
            <a:r>
              <a:rPr b="0" lang="sr-Latn-RS" sz="2300" spc="-1" strike="noStrike">
                <a:solidFill>
                  <a:srgbClr val="ffc000"/>
                </a:solidFill>
                <a:latin typeface="Century Gothic"/>
              </a:rPr>
              <a:t>beings</a:t>
            </a:r>
            <a:r>
              <a:rPr b="0" lang="en-US" sz="2300" spc="-1" strike="noStrike">
                <a:solidFill>
                  <a:srgbClr val="ffc000"/>
                </a:solidFill>
                <a:latin typeface="Century Gothic"/>
              </a:rPr>
              <a:t>, is often impaired in mentally ill persons</a:t>
            </a:r>
            <a:r>
              <a:rPr b="1" lang="en-US" sz="2300" spc="-1" strike="noStrike">
                <a:solidFill>
                  <a:srgbClr val="ffc000"/>
                </a:solidFill>
                <a:latin typeface="Century Gothic"/>
              </a:rPr>
              <a:t>. Group work and interactions in the group restore lost security and reduce anxiety through the realization that</a:t>
            </a:r>
            <a:r>
              <a:rPr b="1" lang="sr-Latn-RS" sz="2300" spc="-1" strike="noStrike">
                <a:solidFill>
                  <a:srgbClr val="ffc000"/>
                </a:solidFill>
                <a:latin typeface="Century Gothic"/>
              </a:rPr>
              <a:t> </a:t>
            </a:r>
            <a:r>
              <a:rPr b="1" lang="en-US" sz="2300" spc="-1" strike="noStrike">
                <a:solidFill>
                  <a:srgbClr val="ffc000"/>
                </a:solidFill>
                <a:latin typeface="Century Gothic"/>
              </a:rPr>
              <a:t>,,another person has a similar problem</a:t>
            </a:r>
            <a:r>
              <a:rPr b="1" lang="sr-Latn-RS" sz="2300" spc="-1" strike="noStrike">
                <a:solidFill>
                  <a:srgbClr val="ffc000"/>
                </a:solidFill>
                <a:latin typeface="Century Gothic"/>
              </a:rPr>
              <a:t>“</a:t>
            </a:r>
            <a:r>
              <a:rPr b="1" lang="en-US" sz="2300" spc="-1" strike="noStrike">
                <a:solidFill>
                  <a:srgbClr val="ffc000"/>
                </a:solidFill>
                <a:latin typeface="Century Gothic"/>
              </a:rPr>
              <a:t>, and through the development of individual and collective responsibility, create conditions for the process of individual maturation.</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The principles of sociotherapeutic work are very close to group psychotherapy, although there are certain specificities resulting from combining group psychotherapy and work on socialization. Sociotherapy procedures are more oriented towards the patient's communication with his environment, in the sense of forcing healthy interpersonal communication and encouraging individual work and creative possibilities, and are less concerned with the analysis of the dynamics of the emergence of psychopathology. </a:t>
            </a: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Groups intended for the performance of specific activities have the goal of engaging the patient in specific activities, including physical activities, recreational sports, etc. </a:t>
            </a: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Sociotherapeutic groups, led by therapists determined for this type of activity, aim to encourage social communication, initiative</a:t>
            </a:r>
            <a:r>
              <a:rPr b="0" lang="sr-Latn-RS" sz="2300" spc="-1" strike="noStrike">
                <a:solidFill>
                  <a:srgbClr val="ffc000"/>
                </a:solidFill>
                <a:latin typeface="Century Gothic"/>
              </a:rPr>
              <a:t>,</a:t>
            </a:r>
            <a:r>
              <a:rPr b="0" lang="en-US" sz="2300" spc="-1" strike="noStrike">
                <a:solidFill>
                  <a:srgbClr val="ffc000"/>
                </a:solidFill>
                <a:latin typeface="Century Gothic"/>
              </a:rPr>
              <a:t> and the realization of healthy personality potentials.</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380880"/>
            <a:ext cx="8229600" cy="607392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THERAPY COMMUNIT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is an important type of sociotherapeutic activity, especially for the population of hospitalized patients. Creating an atmosphere of a therapeutic community in a hospital environment is a prerequisite for the effectiveness of all other forms of treatment applied in the therapeutic program. Members of the therapeutic community are all patients and all members of the psychiatric institution's staff. </a:t>
            </a:r>
            <a:r>
              <a:rPr b="1" lang="en-US" sz="2100" spc="-1" strike="noStrike">
                <a:solidFill>
                  <a:srgbClr val="ffc000"/>
                </a:solidFill>
                <a:latin typeface="Century Gothic"/>
              </a:rPr>
              <a:t>The basic principle of the therapeutic community is the principle of leveling the hierarchical pyramid, </a:t>
            </a:r>
            <a:r>
              <a:rPr b="0" lang="en-US" sz="2100" spc="-1" strike="noStrike">
                <a:solidFill>
                  <a:srgbClr val="ffc000"/>
                </a:solidFill>
                <a:latin typeface="Century Gothic"/>
              </a:rPr>
              <a:t>which guarantees equality in communication to all participants of the therapeutic community. Meetings of the therapeutic community can be organized daily, or three to four times during one week. The topics of the therapeutic community are chosen by the patients during the meeting itself. All participants discuss all problems and significant events in the department equally. It is necessary to develop a tolerant environment, and the therapeutic procedure itself forces healthy communication, as a way of encouraging positive social rehabilitation and the realization of work and creative opportunities.</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7200" y="457200"/>
            <a:ext cx="8229600" cy="599760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000"/>
                </a:solidFill>
                <a:latin typeface="Century Gothic"/>
              </a:rPr>
              <a:t>OCCUPATIONAL THERAPY </a:t>
            </a: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ffc000"/>
                </a:solidFill>
                <a:latin typeface="Century Gothic"/>
              </a:rPr>
              <a:t>	</a:t>
            </a:r>
            <a:r>
              <a:rPr b="0" lang="en-US" sz="2300" spc="-1" strike="noStrike">
                <a:solidFill>
                  <a:srgbClr val="ffc000"/>
                </a:solidFill>
                <a:latin typeface="Century Gothic"/>
              </a:rPr>
              <a:t>is another important form of </a:t>
            </a:r>
            <a:r>
              <a:rPr b="0" lang="sr-Latn-RS" sz="2300" spc="-1" strike="noStrike">
                <a:solidFill>
                  <a:srgbClr val="ffc000"/>
                </a:solidFill>
                <a:latin typeface="Century Gothic"/>
              </a:rPr>
              <a:t>sociotherapy</a:t>
            </a:r>
            <a:r>
              <a:rPr b="0" lang="en-US" sz="2300" spc="-1" strike="noStrike">
                <a:solidFill>
                  <a:srgbClr val="ffc000"/>
                </a:solidFill>
                <a:latin typeface="Century Gothic"/>
              </a:rPr>
              <a:t>, important for forcing healthy and suppressing pathological behavior. Work (gr. Ergos) as one of the necessary factors of human existence, forces healthy personality potentials, activates attention, intellectual and emotional potentials, reduces anxiety, developing and </a:t>
            </a:r>
            <a:r>
              <a:rPr b="0" lang="sr-Latn-RS" sz="2300" spc="-1" strike="noStrike">
                <a:solidFill>
                  <a:srgbClr val="ffc000"/>
                </a:solidFill>
                <a:latin typeface="Century Gothic"/>
              </a:rPr>
              <a:t>maintains</a:t>
            </a:r>
            <a:r>
              <a:rPr b="0" lang="en-US" sz="2300" spc="-1" strike="noStrike">
                <a:solidFill>
                  <a:srgbClr val="ffc000"/>
                </a:solidFill>
                <a:latin typeface="Century Gothic"/>
              </a:rPr>
              <a:t> a sense of reality. Work or ergotherapy is therefore an important element of the therapeutic program for patients of different ages, as an opportunity that offers maximum resocialization and rehabilitation to mentally ill persons. Involvement in the work program reduces anxiety, </a:t>
            </a:r>
            <a:r>
              <a:rPr b="0" lang="sr-Latn-RS" sz="2300" spc="-1" strike="noStrike">
                <a:solidFill>
                  <a:srgbClr val="ffc000"/>
                </a:solidFill>
                <a:latin typeface="Century Gothic"/>
              </a:rPr>
              <a:t>and </a:t>
            </a:r>
            <a:r>
              <a:rPr b="0" lang="en-US" sz="2300" spc="-1" strike="noStrike">
                <a:solidFill>
                  <a:srgbClr val="ffc000"/>
                </a:solidFill>
                <a:latin typeface="Century Gothic"/>
              </a:rPr>
              <a:t>aggression, contributes to the creation of work habits</a:t>
            </a:r>
            <a:r>
              <a:rPr b="0" lang="sr-Latn-RS" sz="2300" spc="-1" strike="noStrike">
                <a:solidFill>
                  <a:srgbClr val="ffc000"/>
                </a:solidFill>
                <a:latin typeface="Century Gothic"/>
              </a:rPr>
              <a:t>,</a:t>
            </a:r>
            <a:r>
              <a:rPr b="0" lang="en-US" sz="2300" spc="-1" strike="noStrike">
                <a:solidFill>
                  <a:srgbClr val="ffc000"/>
                </a:solidFill>
                <a:latin typeface="Century Gothic"/>
              </a:rPr>
              <a:t> and increases the sense of tolerance in joint activities. Occupational therapy is created by a team of experts, it must be targeted and adapted to the patient.</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7200" y="838080"/>
            <a:ext cx="8229600" cy="5616720"/>
          </a:xfrm>
          <a:prstGeom prst="rect">
            <a:avLst/>
          </a:prstGeom>
          <a:noFill/>
          <a:ln w="0">
            <a:noFill/>
          </a:ln>
        </p:spPr>
        <p:txBody>
          <a:bodyPr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000"/>
                </a:solidFill>
                <a:latin typeface="Century Gothic"/>
              </a:rPr>
              <a:t>RECREATION ACTIVITIES </a:t>
            </a:r>
            <a:r>
              <a:rPr b="0" lang="en-US" sz="2600" spc="-1" strike="noStrike">
                <a:solidFill>
                  <a:srgbClr val="ffc000"/>
                </a:solidFill>
                <a:latin typeface="Century Gothic"/>
              </a:rPr>
              <a:t>involve engaging the patient, which contributes to his rest and relaxation. </a:t>
            </a:r>
            <a:r>
              <a:rPr b="1" lang="en-US" sz="2600" spc="-1" strike="noStrike">
                <a:solidFill>
                  <a:srgbClr val="ffc000"/>
                </a:solidFill>
                <a:latin typeface="Century Gothic"/>
              </a:rPr>
              <a:t>SOCIOTHERAPY CLUBS </a:t>
            </a:r>
            <a:r>
              <a:rPr b="0" lang="en-US" sz="2600" spc="-1" strike="noStrike">
                <a:solidFill>
                  <a:srgbClr val="ffc000"/>
                </a:solidFill>
                <a:latin typeface="Century Gothic"/>
              </a:rPr>
              <a:t>can be organized as part of psychiatric institutions, or they can function independently. Club members are treated psychiatric patients. Members of their families also take part in the work of the clubs. The therapeutic program in sociotherapy clubs includes discussions on certain topics, exchange of experience, receiving and giving advice, providing mutual support in a relaxed and tolerant atmosphere.</a:t>
            </a:r>
            <a:endParaRPr b="0" lang="en-US" sz="26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685440"/>
            <a:ext cx="8229600" cy="5769000"/>
          </a:xfrm>
          <a:prstGeom prst="rect">
            <a:avLst/>
          </a:prstGeom>
          <a:noFill/>
          <a:ln w="0">
            <a:noFill/>
          </a:ln>
        </p:spPr>
        <p:txBody>
          <a:bodyPr anchor="t">
            <a:normAutofit/>
          </a:bodyPr>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At the very beginning, it is necessary to define the goals of psychotherapy. The goals of psychotherapy can be short-term or long-term, more or less ambitious. They depend on manifest psychopathology, the age of the patient, his education, and cultural peculiarities, as well as on the therapist's qualifications for a certain psychotherapy technique. One of the most important moments when it comes to psychodynamically oriented psychotherapy is an adequate dynamic diagnosis and assessment of the timeliness of psychotherapy. The goals range from reducing anxiety and lowering emotional tension, that is, from eliminating or alleviating symptoms and achieving corrections in behavior, up to personality reconstruction, to reaching maturity and maximum realization of creative potential.</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c000"/>
                </a:solidFill>
                <a:latin typeface="Century Gothic"/>
              </a:rPr>
              <a:t>REFERENCES</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1. Andreasen PJ, Seidel JA,</a:t>
            </a:r>
            <a:r>
              <a:rPr b="0" lang="en-US" sz="1000" spc="-1" strike="noStrike">
                <a:solidFill>
                  <a:srgbClr val="ffc000"/>
                </a:solidFill>
                <a:latin typeface="Century Gothic"/>
              </a:rPr>
              <a:t>: Bahevioral techniques in the treatment of patients with multiple peronality disorder. Annals of Clinical Psychiatry 4: 29-32,1992.</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2. Anić N:</a:t>
            </a:r>
            <a:r>
              <a:rPr b="0" lang="sr-Latn-CS" sz="1000" spc="-1" strike="noStrike">
                <a:solidFill>
                  <a:srgbClr val="ffc000"/>
                </a:solidFill>
                <a:latin typeface="Century Gothic"/>
              </a:rPr>
              <a:t> Praktikum iz bihejvior terapije II. Društvo psihologa Hrvatske,Zagreb,1985.</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3. Balint M,Balint E</a:t>
            </a:r>
            <a:r>
              <a:rPr b="0" lang="en-US" sz="1000" spc="-1" strike="noStrike">
                <a:solidFill>
                  <a:srgbClr val="ffc000"/>
                </a:solidFill>
                <a:latin typeface="Century Gothic"/>
              </a:rPr>
              <a:t>: Psychotherapeutic  techniques in medicine. Tavistock Publications,London,1961.</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4. Beck A: Cognitive Therapy of Personality Disorders. New York,Guilford.1990.</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5. Beck AT, Rush AJ,Shaw BF,et al: Cognitive therapy of Depression.New York,Guilford,1979.</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6. Butler G: Exposure as a treatment for social  phobia: Some instruktive difficulties. Behavior Research and Therapy,23, 651-657,1985.</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7. Clark Dh: Social therapy in psychiatry . Penguin Books,Meddlesex,England,1974.</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8. Edwards NB: Case,Conference: Assertive Training in a Case of Homosexual Pedophilia,J.Behav.Therapy and exp.Psychiatry,3.55,1972.</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9. Eysenck HJ: Bihavior Therapy and the Neuroses,Pergamon Press,1960.</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0. Eysenck HJ: Bahevior Therapy, Extinction and Relapse,Brit.Journal Psychiatry,109,12,1963.</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1. Fenichel O: The Psychoanalitic  Theory of neurosis,New York,W.W. Norton,1945.</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2. Foulkes SH, Anthony J: Group psychoterapy,Harmondsworth, Penguin Books,Middlesex,1967.</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3. Halmuth Sh,Patrick ML: Bihevioral Therapy,McGraw-Hill,1975..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4. Heimberg RG,Barlow DH: Psychosocial treatments for social phobias. Psychosomatics,29,27-37,l988.</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5. Kaličanin P. Psihpoterapija I socioterapija. U: Kaličanin P.Klinička Psihijarija, Instotuta za mentalno ydravlje,Beograd,2003,507-556.</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6.Klajn E.,Zdravković J.,Birom.,Kosanović T.,Kostić M., MatkovićO.,Vukov-Goldner M.,Vlajković J,Kecmanović D,Kulenović M. Psihoterapija.U: Kecmanovi</a:t>
            </a:r>
            <a:r>
              <a:rPr b="0" lang="sr-Latn-CS" sz="1000" spc="-1" strike="noStrike">
                <a:solidFill>
                  <a:srgbClr val="ffc000"/>
                </a:solidFill>
                <a:latin typeface="Century Gothic"/>
              </a:rPr>
              <a:t>ć D. Psihijatrija, Medicinska knjiga,Beograd-Zagreb,1989, 1650-1835.</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17. Marić J. Psihoterapija-osnovni pojmovi, U</a:t>
            </a:r>
            <a:r>
              <a:rPr b="0" lang="en-US" sz="1000" spc="-1" strike="noStrike">
                <a:solidFill>
                  <a:srgbClr val="ffc000"/>
                </a:solidFill>
                <a:latin typeface="Century Gothic"/>
              </a:rPr>
              <a:t>: </a:t>
            </a:r>
            <a:r>
              <a:rPr b="0" lang="sr-Latn-CS" sz="1000" spc="-1" strike="noStrike">
                <a:solidFill>
                  <a:srgbClr val="ffc000"/>
                </a:solidFill>
                <a:latin typeface="Century Gothic"/>
              </a:rPr>
              <a:t>Marić J,Klinička psihijatrija,Beograd,ISBN 8690155910,2001,415-454.</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536400" y="378000"/>
            <a:ext cx="8229600" cy="1000080"/>
          </a:xfrm>
          <a:prstGeom prst="rect">
            <a:avLst/>
          </a:prstGeom>
          <a:ln w="0">
            <a:noFill/>
          </a:ln>
        </p:spPr>
      </p:pic>
      <p:sp>
        <p:nvSpPr>
          <p:cNvPr id="315" name=""/>
          <p:cNvSpPr txBox="1"/>
          <p:nvPr/>
        </p:nvSpPr>
        <p:spPr>
          <a:xfrm>
            <a:off x="457200" y="1752480"/>
            <a:ext cx="8229600" cy="5105520"/>
          </a:xfrm>
          <a:prstGeom prst="rect">
            <a:avLst/>
          </a:prstGeom>
          <a:noFill/>
          <a:ln w="0">
            <a:noFill/>
          </a:ln>
        </p:spPr>
        <p:txBody>
          <a:bodyPr anchor="t">
            <a:normAutofit/>
          </a:bodyPr>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Century Gothic"/>
              </a:rPr>
              <a:t>1. </a:t>
            </a:r>
            <a:r>
              <a:rPr b="1" lang="sr-Latn-RS" sz="1600" spc="-1" strike="noStrike">
                <a:solidFill>
                  <a:srgbClr val="ffc000"/>
                </a:solidFill>
                <a:latin typeface="Century Gothic"/>
              </a:rPr>
              <a:t>PSYCHOANALYSIS</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Century Gothic"/>
              </a:rPr>
              <a:t>2. </a:t>
            </a:r>
            <a:r>
              <a:rPr b="1" lang="sr-Latn-RS" sz="1600" spc="-1" strike="noStrike">
                <a:solidFill>
                  <a:srgbClr val="ffc000"/>
                </a:solidFill>
                <a:latin typeface="Century Gothic"/>
              </a:rPr>
              <a:t>EXPRESSIVE PSYCHOTHERAPY (individual)</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Century Gothic"/>
              </a:rPr>
              <a:t>3. </a:t>
            </a:r>
            <a:r>
              <a:rPr b="1" lang="sr-Latn-RS" sz="1600" spc="-1" strike="noStrike">
                <a:solidFill>
                  <a:srgbClr val="ffc000"/>
                </a:solidFill>
                <a:latin typeface="Century Gothic"/>
              </a:rPr>
              <a:t>Expressive psychotherapy (group)     </a:t>
            </a:r>
            <a:endParaRPr b="0" lang="en-US" sz="1600" spc="-1" strike="noStrike">
              <a:solidFill>
                <a:srgbClr val="ffc000"/>
              </a:solidFill>
              <a:latin typeface="Century Gothic"/>
            </a:endParaRPr>
          </a:p>
          <a:p>
            <a:pPr lvl="1" marL="952560" indent="-514440">
              <a:lnSpc>
                <a:spcPct val="80000"/>
              </a:lnSpc>
              <a:spcBef>
                <a:spcPts val="400"/>
              </a:spcBef>
              <a:buClr>
                <a:srgbClr val="4f81bd"/>
              </a:buClr>
              <a:buSzPct val="95000"/>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c000"/>
                </a:solidFill>
                <a:latin typeface="Century Gothic"/>
              </a:rPr>
              <a:t>Analytical group psychotherapy (group analysis)      </a:t>
            </a:r>
            <a:endParaRPr b="0" lang="en-US" sz="1600" spc="-1" strike="noStrike">
              <a:solidFill>
                <a:srgbClr val="ffc000"/>
              </a:solidFill>
              <a:latin typeface="Century Gothic"/>
            </a:endParaRPr>
          </a:p>
          <a:p>
            <a:pPr lvl="1" marL="952560" indent="-514440">
              <a:lnSpc>
                <a:spcPct val="80000"/>
              </a:lnSpc>
              <a:spcBef>
                <a:spcPts val="400"/>
              </a:spcBef>
              <a:buClr>
                <a:srgbClr val="4f81bd"/>
              </a:buClr>
              <a:buSzPct val="95000"/>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c000"/>
                </a:solidFill>
                <a:latin typeface="Century Gothic"/>
              </a:rPr>
              <a:t>Family and partnership psychotherapy  </a:t>
            </a:r>
            <a:endParaRPr b="0" lang="en-US" sz="1600" spc="-1" strike="noStrike">
              <a:solidFill>
                <a:srgbClr val="ffc000"/>
              </a:solidFill>
              <a:latin typeface="Century Gothic"/>
            </a:endParaRPr>
          </a:p>
          <a:p>
            <a:pPr lvl="1" marL="952560" indent="-514440">
              <a:lnSpc>
                <a:spcPct val="80000"/>
              </a:lnSpc>
              <a:spcBef>
                <a:spcPts val="400"/>
              </a:spcBef>
              <a:buClr>
                <a:srgbClr val="4f81bd"/>
              </a:buClr>
              <a:buSzPct val="95000"/>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c000"/>
                </a:solidFill>
                <a:latin typeface="Century Gothic"/>
              </a:rPr>
              <a:t>Analytical psychodrama</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Century Gothic"/>
              </a:rPr>
              <a:t>4. </a:t>
            </a:r>
            <a:r>
              <a:rPr b="1" lang="sr-Latn-RS" sz="1600" spc="-1" strike="noStrike">
                <a:solidFill>
                  <a:srgbClr val="ffc000"/>
                </a:solidFill>
                <a:latin typeface="Century Gothic"/>
              </a:rPr>
              <a:t>Supportive psychotherapy    </a:t>
            </a:r>
            <a:r>
              <a:rPr b="1" lang="en-US" sz="1600" spc="-1" strike="noStrike">
                <a:solidFill>
                  <a:srgbClr val="ffc000"/>
                </a:solidFill>
                <a:latin typeface="Century Gothic"/>
              </a:rPr>
              <a:t>  </a:t>
            </a:r>
            <a:endParaRPr b="0" lang="en-US" sz="1600" spc="-1" strike="noStrike">
              <a:solidFill>
                <a:srgbClr val="ffc000"/>
              </a:solidFill>
              <a:latin typeface="Century Gothic"/>
            </a:endParaRPr>
          </a:p>
          <a:p>
            <a:pPr lvl="1" marL="952560" indent="-51444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Century Gothic"/>
              </a:rPr>
              <a:t>= </a:t>
            </a:r>
            <a:r>
              <a:rPr b="0" lang="sr-Latn-RS" sz="1600" spc="-1" strike="noStrike">
                <a:solidFill>
                  <a:srgbClr val="ffc000"/>
                </a:solidFill>
                <a:latin typeface="Century Gothic"/>
              </a:rPr>
              <a:t>Suggestive psychotherapy          </a:t>
            </a:r>
            <a:endParaRPr b="0" lang="en-US" sz="1600" spc="-1" strike="noStrike">
              <a:solidFill>
                <a:srgbClr val="ffc000"/>
              </a:solidFill>
              <a:latin typeface="Century Gothic"/>
            </a:endParaRPr>
          </a:p>
          <a:p>
            <a:pPr lvl="1" marL="952560" indent="-514440">
              <a:lnSpc>
                <a:spcPct val="80000"/>
              </a:lnSpc>
              <a:spcBef>
                <a:spcPts val="400"/>
              </a:spcBef>
              <a:buClr>
                <a:srgbClr val="4f81bd"/>
              </a:buClr>
              <a:buSzPct val="95000"/>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c000"/>
                </a:solidFill>
                <a:latin typeface="Century Gothic"/>
              </a:rPr>
              <a:t>Larved suggestion          </a:t>
            </a:r>
            <a:endParaRPr b="0" lang="en-US" sz="1600" spc="-1" strike="noStrike">
              <a:solidFill>
                <a:srgbClr val="ffc000"/>
              </a:solidFill>
              <a:latin typeface="Century Gothic"/>
            </a:endParaRPr>
          </a:p>
          <a:p>
            <a:pPr lvl="1" marL="952560" indent="-514440">
              <a:lnSpc>
                <a:spcPct val="80000"/>
              </a:lnSpc>
              <a:spcBef>
                <a:spcPts val="400"/>
              </a:spcBef>
              <a:buClr>
                <a:srgbClr val="4f81bd"/>
              </a:buClr>
              <a:buSzPct val="95000"/>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c000"/>
                </a:solidFill>
                <a:latin typeface="Century Gothic"/>
              </a:rPr>
              <a:t>Hypnosis          </a:t>
            </a:r>
            <a:endParaRPr b="0" lang="en-US" sz="1600" spc="-1" strike="noStrike">
              <a:solidFill>
                <a:srgbClr val="ffc000"/>
              </a:solidFill>
              <a:latin typeface="Century Gothic"/>
            </a:endParaRPr>
          </a:p>
          <a:p>
            <a:pPr lvl="1" marL="952560" indent="-514440">
              <a:lnSpc>
                <a:spcPct val="80000"/>
              </a:lnSpc>
              <a:spcBef>
                <a:spcPts val="400"/>
              </a:spcBef>
              <a:buClr>
                <a:srgbClr val="4f81bd"/>
              </a:buClr>
              <a:buSzPct val="95000"/>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c000"/>
                </a:solidFill>
                <a:latin typeface="Century Gothic"/>
              </a:rPr>
              <a:t>Autogenic training      </a:t>
            </a:r>
            <a:endParaRPr b="0" lang="en-US" sz="1600" spc="-1" strike="noStrike">
              <a:solidFill>
                <a:srgbClr val="ffc000"/>
              </a:solidFill>
              <a:latin typeface="Century Gothic"/>
            </a:endParaRPr>
          </a:p>
          <a:p>
            <a:pPr lvl="1" marL="952560" indent="-51444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Century Gothic"/>
              </a:rPr>
              <a:t>= </a:t>
            </a:r>
            <a:r>
              <a:rPr b="0" lang="sr-Latn-RS" sz="1600" spc="-1" strike="noStrike">
                <a:solidFill>
                  <a:srgbClr val="ffc000"/>
                </a:solidFill>
                <a:latin typeface="Century Gothic"/>
              </a:rPr>
              <a:t>Supportive-verbal psychotherapy</a:t>
            </a:r>
            <a:r>
              <a:rPr b="0" lang="en-US" sz="1600" spc="-1" strike="noStrike">
                <a:solidFill>
                  <a:srgbClr val="ffc000"/>
                </a:solidFill>
                <a:latin typeface="Century Gothic"/>
              </a:rPr>
              <a:t>    </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Century Gothic"/>
              </a:rPr>
              <a:t>5. </a:t>
            </a:r>
            <a:r>
              <a:rPr b="1" lang="sr-Latn-RS" sz="1600" spc="-1" strike="noStrike">
                <a:solidFill>
                  <a:srgbClr val="ffc000"/>
                </a:solidFill>
                <a:latin typeface="Century Gothic"/>
              </a:rPr>
              <a:t>Neoanalysis</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600" spc="-1" strike="noStrike">
                <a:solidFill>
                  <a:srgbClr val="ffc000"/>
                </a:solidFill>
                <a:latin typeface="Century Gothic"/>
              </a:rPr>
              <a:t>6. Behavioral psychotherapy</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600" spc="-1" strike="noStrike">
                <a:solidFill>
                  <a:srgbClr val="ffc000"/>
                </a:solidFill>
                <a:latin typeface="Century Gothic"/>
              </a:rPr>
              <a:t>7. Cognitive psychotherapy</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600" spc="-1" strike="noStrike">
                <a:solidFill>
                  <a:srgbClr val="ffc000"/>
                </a:solidFill>
                <a:latin typeface="Century Gothic"/>
              </a:rPr>
              <a:t>8. Transactional analytical psychotherapy</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600" spc="-1" strike="noStrike">
                <a:solidFill>
                  <a:srgbClr val="ffc000"/>
                </a:solidFill>
                <a:latin typeface="Century Gothic"/>
              </a:rPr>
              <a:t>9. Gestalt therapy</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600" spc="-1" strike="noStrike">
                <a:solidFill>
                  <a:srgbClr val="ffc000"/>
                </a:solidFill>
                <a:latin typeface="Century Gothic"/>
              </a:rPr>
              <a:t>10. Systemic family therapy</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600" spc="-1" strike="noStrike">
                <a:solidFill>
                  <a:srgbClr val="ffc000"/>
                </a:solidFill>
                <a:latin typeface="Century Gothic"/>
              </a:rPr>
              <a:t>11. Shikzal analysis</a:t>
            </a:r>
            <a:endParaRPr b="0" lang="en-US" sz="16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457200"/>
            <a:ext cx="8229600" cy="599760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 Other psychotherapy directions    </a:t>
            </a:r>
            <a:endParaRPr b="0" lang="en-US" sz="3000" spc="-1" strike="noStrike">
              <a:solidFill>
                <a:srgbClr val="ffc000"/>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  </a:t>
            </a:r>
            <a:endParaRPr b="0" lang="en-US" sz="3000" spc="-1" strike="noStrike">
              <a:solidFill>
                <a:srgbClr val="ffc000"/>
              </a:solidFill>
              <a:latin typeface="Century Gothic"/>
            </a:endParaRPr>
          </a:p>
          <a:p>
            <a:pPr marL="447840" indent="-382680">
              <a:spcBef>
                <a:spcPts val="751"/>
              </a:spcBef>
              <a:buClr>
                <a:srgbClr val="4f81bd"/>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ent-centered therapy (C.R. Rogers) </a:t>
            </a:r>
            <a:endParaRPr b="0" lang="en-US" sz="3000" spc="-1" strike="noStrike">
              <a:solidFill>
                <a:srgbClr val="ffc000"/>
              </a:solidFill>
              <a:latin typeface="Century Gothic"/>
            </a:endParaRPr>
          </a:p>
          <a:p>
            <a:pPr marL="447840" indent="-382680">
              <a:spcBef>
                <a:spcPts val="751"/>
              </a:spcBef>
              <a:buClr>
                <a:srgbClr val="4f81bd"/>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Existentialist psychotherapy methods</a:t>
            </a:r>
            <a:endParaRPr b="0" lang="en-US" sz="3000" spc="-1" strike="noStrike">
              <a:solidFill>
                <a:srgbClr val="ffc000"/>
              </a:solidFill>
              <a:latin typeface="Century Gothic"/>
            </a:endParaRPr>
          </a:p>
          <a:p>
            <a:pPr marL="447840" indent="-382680">
              <a:spcBef>
                <a:spcPts val="751"/>
              </a:spcBef>
              <a:buClr>
                <a:srgbClr val="4f81bd"/>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Logotherapy     </a:t>
            </a:r>
            <a:endParaRPr b="0" lang="en-US" sz="3000" spc="-1" strike="noStrike">
              <a:solidFill>
                <a:srgbClr val="ffc000"/>
              </a:solidFill>
              <a:latin typeface="Century Gothic"/>
            </a:endParaRPr>
          </a:p>
          <a:p>
            <a:pPr marL="447840" indent="-382680">
              <a:spcBef>
                <a:spcPts val="751"/>
              </a:spcBef>
              <a:buClr>
                <a:srgbClr val="4f81bd"/>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Movement of Balint's groups-</a:t>
            </a:r>
            <a:endParaRPr b="0" lang="en-US" sz="3000" spc="-1" strike="noStrike">
              <a:solidFill>
                <a:srgbClr val="ffc000"/>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 </a:t>
            </a:r>
            <a:r>
              <a:rPr b="0" lang="en-US" sz="3000" spc="-1" strike="noStrike">
                <a:solidFill>
                  <a:srgbClr val="ffc000"/>
                </a:solidFill>
                <a:latin typeface="Century Gothic"/>
              </a:rPr>
              <a:t>SOCIOTHERAPY</a:t>
            </a:r>
            <a:endParaRPr b="0" lang="en-US" sz="30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457200" y="268200"/>
            <a:ext cx="8229600" cy="1395360"/>
          </a:xfrm>
          <a:prstGeom prst="rect">
            <a:avLst/>
          </a:prstGeom>
          <a:ln w="0">
            <a:noFill/>
          </a:ln>
        </p:spPr>
      </p:pic>
      <p:sp>
        <p:nvSpPr>
          <p:cNvPr id="318" name=""/>
          <p:cNvSpPr txBox="1"/>
          <p:nvPr/>
        </p:nvSpPr>
        <p:spPr>
          <a:xfrm>
            <a:off x="457200" y="1523520"/>
            <a:ext cx="8229600" cy="4930920"/>
          </a:xfrm>
          <a:prstGeom prst="rect">
            <a:avLst/>
          </a:prstGeom>
          <a:noFill/>
          <a:ln w="0">
            <a:noFill/>
          </a:ln>
        </p:spPr>
        <p:txBody>
          <a:bodyPr anchor="t">
            <a:normAutofit/>
          </a:bodyPr>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Psychoanalysis is an in-depth and psychodynamic psychotherapy, that is primarily used in the treatment of neuroses, but nowadays it is increasingly used in the treatment of other psychological disorders (borderline personality disorder, psychosomatic disorders, other SELFA disorders). </a:t>
            </a:r>
            <a:endParaRPr b="0" lang="en-US" sz="1900" spc="-1" strike="noStrike">
              <a:solidFill>
                <a:srgbClr val="ffc000"/>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The greatest contribution to the development of psychoanalysis was made by the Viennese doctor of Jewish origin, Sigmund Freud. The beginning of the development of psychoanalysis is linked to the end of the 19</a:t>
            </a:r>
            <a:r>
              <a:rPr b="0" lang="en-US" sz="1900" spc="-1" strike="noStrike" baseline="30000">
                <a:solidFill>
                  <a:srgbClr val="ffc000"/>
                </a:solidFill>
                <a:latin typeface="Century Gothic"/>
              </a:rPr>
              <a:t>th</a:t>
            </a:r>
            <a:r>
              <a:rPr b="0" lang="en-US" sz="1900" spc="-1" strike="noStrike">
                <a:solidFill>
                  <a:srgbClr val="ffc000"/>
                </a:solidFill>
                <a:latin typeface="Century Gothic"/>
              </a:rPr>
              <a:t> century and Sigmund Freud’s collaboration with the famous Viennese doctor Josef Breuer, who in 1891 treated a famous case in the history of psychoanalysis, known as Anna O, using the method of cathartic hypnosis. The product of joint work with Breuer is their co-authored book </a:t>
            </a:r>
            <a:r>
              <a:rPr b="1" lang="en-US" sz="1900" spc="-1" strike="noStrike">
                <a:solidFill>
                  <a:srgbClr val="ffc000"/>
                </a:solidFill>
                <a:latin typeface="Century Gothic"/>
              </a:rPr>
              <a:t>“Studies on Hysteria” (1895</a:t>
            </a:r>
            <a:r>
              <a:rPr b="0" lang="en-US" sz="1900" spc="-1" strike="noStrike">
                <a:solidFill>
                  <a:srgbClr val="ffc000"/>
                </a:solidFill>
                <a:latin typeface="Century Gothic"/>
              </a:rPr>
              <a:t>). In the case of a patient, Elizabeth von R. Freud discovers the method of free association, which will replace cathartic hypnosis and become the main technique of psychoanalysis. In addition, in the field of psychoanalytic experience, his theory of personality</a:t>
            </a:r>
            <a:r>
              <a:rPr b="1" lang="en-US" sz="1900" spc="-1" strike="noStrike">
                <a:solidFill>
                  <a:srgbClr val="ffc000"/>
                </a:solidFill>
                <a:latin typeface="Century Gothic"/>
              </a:rPr>
              <a:t>, the theory of dreams, and the theory of the existence of infantile sexuality will be created.</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Transference</a:t>
            </a:r>
            <a:r>
              <a:rPr b="0" lang="en-US" sz="2100" spc="-1" strike="noStrike">
                <a:solidFill>
                  <a:srgbClr val="ffc000"/>
                </a:solidFill>
                <a:latin typeface="Century Gothic"/>
              </a:rPr>
              <a:t> is a phenomenon that accompanies psychoanalysis from beginning to end and includes the process of transferring feelings, thoughts, impulses, fantasies, etc. from the patient to the therapist, during which the therapist changes the internalized object from childhood. </a:t>
            </a:r>
            <a:endParaRPr b="0" lang="en-US" sz="2100" spc="-1" strike="noStrike">
              <a:solidFill>
                <a:srgbClr val="ffc000"/>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psychoanalytic situation forces regression, the patient regresses to those levels in psychosexual development for which he is fixated while trying to repeat experiences with primary objects in the relationship with the therapist, without being aware of it. Thus, during the analysis, the so-called </a:t>
            </a:r>
            <a:r>
              <a:rPr b="1" lang="en-US" sz="2100" spc="-1" strike="noStrike">
                <a:solidFill>
                  <a:srgbClr val="ffc000"/>
                </a:solidFill>
                <a:latin typeface="Century Gothic"/>
              </a:rPr>
              <a:t>transference neurosis </a:t>
            </a:r>
            <a:r>
              <a:rPr b="0" lang="en-US" sz="2100" spc="-1" strike="noStrike">
                <a:solidFill>
                  <a:srgbClr val="ffc000"/>
                </a:solidFill>
                <a:latin typeface="Century Gothic"/>
              </a:rPr>
              <a:t>is a repeated experience from childhood in the relationship with the therapist. </a:t>
            </a:r>
            <a:endParaRPr b="0" lang="en-US" sz="2100" spc="-1" strike="noStrike">
              <a:solidFill>
                <a:srgbClr val="ffc000"/>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therapist can be a substitute for parental figures, brothers, sisters, or some other important objects from the patient's past. The patient directs different feelings toward the therapist: aggression, love, hatred, getting angry with him, ignoring him, or falling in love with him. In other words, psychoanalysis is accompanied by constant alternation of aggressive and libidinous transference, with constantly present ambivalence and resistance.</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2T18:19:53Z</dcterms:created>
  <dc:creator>Acer</dc:creator>
  <dc:description/>
  <dc:language>en-US</dc:language>
  <cp:lastModifiedBy>Milena Stojkovic</cp:lastModifiedBy>
  <dcterms:modified xsi:type="dcterms:W3CDTF">2024-02-11T20:14:35Z</dcterms:modified>
  <cp:revision>15</cp:revision>
  <dc:subject/>
  <dc:title>ПСИХОТЕРАПИЈА                                                      Данијела Д.Ђоковић</dc:title>
</cp:coreProperties>
</file>